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8.jpeg" ContentType="image/jpeg"/>
  <Override PartName="/ppt/media/image73.png" ContentType="image/png"/>
  <Override PartName="/ppt/media/image57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50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43.jpeg" ContentType="image/jpeg"/>
  <Override PartName="/ppt/media/image42.jpeg" ContentType="image/jpeg"/>
  <Override PartName="/ppt/media/image6.png" ContentType="image/png"/>
  <Override PartName="/ppt/media/image18.png" ContentType="image/png"/>
  <Override PartName="/ppt/media/image59.jpeg" ContentType="image/jpeg"/>
  <Override PartName="/ppt/media/image41.jpeg" ContentType="image/jpeg"/>
  <Override PartName="/ppt/media/image38.jpeg" ContentType="image/jpeg"/>
  <Override PartName="/ppt/media/image72.png" ContentType="image/png"/>
  <Override PartName="/ppt/media/image31.jpeg" ContentType="image/jpeg"/>
  <Override PartName="/ppt/media/image24.jpeg" ContentType="image/jpeg"/>
  <Override PartName="/ppt/media/image28.jpeg" ContentType="image/jpeg"/>
  <Override PartName="/ppt/media/image51.jpeg" ContentType="image/jpeg"/>
  <Override PartName="/ppt/media/image71.png" ContentType="image/png"/>
  <Override PartName="/ppt/media/image49.jpeg" ContentType="image/jpeg"/>
  <Override PartName="/ppt/media/image16.png" ContentType="image/png"/>
  <Override PartName="/ppt/media/image76.jpeg" ContentType="image/jpeg"/>
  <Override PartName="/ppt/media/image12.png" ContentType="image/png"/>
  <Override PartName="/ppt/media/image33.jpeg" ContentType="image/jpeg"/>
  <Override PartName="/ppt/media/image27.png" ContentType="image/png"/>
  <Override PartName="/ppt/media/%D0%BC%D0%B5%D0%B4%D0%B2%D0%B5%D0%B4%D1%8C.wav" ContentType="audio/x-wav"/>
  <Override PartName="/ppt/media/image26.jpeg" ContentType="image/jpeg"/>
  <Override PartName="/ppt/media/image30.png" ContentType="image/png"/>
  <Override PartName="/ppt/media/image60.jpeg" ContentType="image/jpeg"/>
  <Override PartName="/ppt/media/image77.jpeg" ContentType="image/jpeg"/>
  <Override PartName="/ppt/media/image4.jpeg" ContentType="image/jpeg"/>
  <Override PartName="/ppt/media/image75.jpeg" ContentType="image/jpeg"/>
  <Override PartName="/ppt/media/image21.jpeg" ContentType="image/jpeg"/>
  <Override PartName="/ppt/media/image80.jpeg" ContentType="image/jpeg"/>
  <Override PartName="/ppt/media/image74.jpeg" ContentType="image/jpeg"/>
  <Override PartName="/ppt/media/image69.jpeg" ContentType="image/jpeg"/>
  <Override PartName="/ppt/media/image67.jpeg" ContentType="image/jpeg"/>
  <Override PartName="/ppt/media/image32.jpeg" ContentType="image/jpeg"/>
  <Override PartName="/ppt/media/image70.jpeg" ContentType="image/jpeg"/>
  <Override PartName="/ppt/media/image65.jpeg" ContentType="image/jpeg"/>
  <Override PartName="/ppt/media/image23.jpeg" ContentType="image/jpeg"/>
  <Override PartName="/ppt/media/image8.png" ContentType="image/png"/>
  <Override PartName="/ppt/media/image17.png" ContentType="image/png"/>
  <Override PartName="/ppt/media/image39.jpeg" ContentType="image/jpeg"/>
  <Override PartName="/ppt/media/image68.jpeg" ContentType="image/jpeg"/>
  <Override PartName="/ppt/media/image66.jpeg" ContentType="image/jpeg"/>
  <Override PartName="/ppt/media/image9.jpeg" ContentType="image/jpeg"/>
  <Override PartName="/ppt/media/image11.png" ContentType="image/png"/>
  <Override PartName="/ppt/media/image64.jpeg" ContentType="image/jpeg"/>
  <Override PartName="/ppt/media/image63.jpeg" ContentType="image/jpeg"/>
  <Override PartName="/ppt/media/image61.jpeg" ContentType="image/jpeg"/>
  <Override PartName="/ppt/media/image78.jpeg" ContentType="image/jpeg"/>
  <Override PartName="/ppt/media/image15.png" ContentType="image/png"/>
  <Override PartName="/ppt/media/image3.png" ContentType="image/png"/>
  <Override PartName="/ppt/media/image56.jpeg" ContentType="image/jpeg"/>
  <Override PartName="/ppt/media/image25.jpeg" ContentType="image/jpeg"/>
  <Override PartName="/ppt/media/image2.png" ContentType="image/png"/>
  <Override PartName="/ppt/media/image14.png" ContentType="image/png"/>
  <Override PartName="/ppt/media/image5.jpeg" ContentType="image/jpeg"/>
  <Override PartName="/ppt/media/image22.jpeg" ContentType="image/jpeg"/>
  <Override PartName="/ppt/media/image62.jpeg" ContentType="image/jpeg"/>
  <Override PartName="/ppt/media/image79.jpeg" ContentType="image/jpeg"/>
  <Override PartName="/ppt/media/image19.png" ContentType="image/png"/>
  <Override PartName="/ppt/media/image7.png" ContentType="image/png"/>
  <Override PartName="/ppt/media/image34.jpeg" ContentType="image/jpeg"/>
  <Override PartName="/ppt/media/image37.jpeg" ContentType="image/jpeg"/>
  <Override PartName="/ppt/media/image20.png" ContentType="image/png"/>
  <Override PartName="/ppt/media/image36.jpeg" ContentType="image/jpeg"/>
  <Override PartName="/ppt/media/image10.png" ContentType="image/png"/>
  <Override PartName="/ppt/media/image35.jpeg" ContentType="image/jpeg"/>
  <Override PartName="/ppt/media/image13.jpeg" ContentType="image/jpeg"/>
  <Override PartName="/ppt/media/image40.jpeg" ContentType="image/jpeg"/>
  <Override PartName="/ppt/media/image29.jpeg" ContentType="image/jpeg"/>
  <Override PartName="/ppt/media/image1.png" ContentType="image/png"/>
  <Override PartName="/ppt/media/image5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9D612-8EF4-468D-A582-BF5EC819C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110FF-7B8B-4F47-BEC1-D466737CD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63D6D-5D1C-4DE1-A8CA-147C5600A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67CB2-AA8C-4199-A064-B8B367C25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542E7-7C9F-4251-83DF-EE5AB8536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AE51D-11B6-4A9A-940A-44C3164DC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C0F58-BE52-4E40-B287-4247200A9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B77D4-3D6F-4D92-93FA-A3F658AEC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884E3-0AF4-41AB-BBAF-A2D3BD7A1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89C0E-D2D9-401A-84E7-DA9D52F18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97F88-7078-417A-985F-4B390E528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70E61-64B1-415C-981A-F50E72D05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3e0ff"/>
            </a:gs>
            <a:gs pos="100000">
              <a:srgbClr val="00f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7719A-C9C2-4F2E-AEAD-5B48C141B20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jpe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jpe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image" Target="../media/image49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image" Target="../media/image52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jpeg"/><Relationship Id="rId3" Type="http://schemas.openxmlformats.org/officeDocument/2006/relationships/image" Target="../media/image55.jpeg"/><Relationship Id="rId4" Type="http://schemas.openxmlformats.org/officeDocument/2006/relationships/image" Target="../media/image56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58.jpeg"/><Relationship Id="rId3" Type="http://schemas.openxmlformats.org/officeDocument/2006/relationships/image" Target="../media/image59.jpeg"/><Relationship Id="rId4" Type="http://schemas.openxmlformats.org/officeDocument/2006/relationships/image" Target="../media/image60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image" Target="../media/image62.jpeg"/><Relationship Id="rId3" Type="http://schemas.openxmlformats.org/officeDocument/2006/relationships/image" Target="../media/image63.jpeg"/><Relationship Id="rId4" Type="http://schemas.openxmlformats.org/officeDocument/2006/relationships/image" Target="../media/image64.jpeg"/><Relationship Id="rId5" Type="http://schemas.openxmlformats.org/officeDocument/2006/relationships/image" Target="../media/image65.jpeg"/><Relationship Id="rId6" Type="http://schemas.openxmlformats.org/officeDocument/2006/relationships/image" Target="../media/image66.jpeg"/><Relationship Id="rId7" Type="http://schemas.openxmlformats.org/officeDocument/2006/relationships/image" Target="../media/image67.jpeg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8.jpeg"/><Relationship Id="rId2" Type="http://schemas.openxmlformats.org/officeDocument/2006/relationships/image" Target="../media/image69.jpeg"/><Relationship Id="rId3" Type="http://schemas.openxmlformats.org/officeDocument/2006/relationships/image" Target="../media/image70.jpeg"/><Relationship Id="rId4" Type="http://schemas.openxmlformats.org/officeDocument/2006/relationships/image" Target="../media/image71.png"/><Relationship Id="rId5" Type="http://schemas.openxmlformats.org/officeDocument/2006/relationships/image" Target="../media/image72.png"/><Relationship Id="rId6" Type="http://schemas.openxmlformats.org/officeDocument/2006/relationships/image" Target="../media/image73.pn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4.jpeg"/><Relationship Id="rId2" Type="http://schemas.openxmlformats.org/officeDocument/2006/relationships/image" Target="../media/image75.jpeg"/><Relationship Id="rId3" Type="http://schemas.openxmlformats.org/officeDocument/2006/relationships/image" Target="../media/image76.jpeg"/><Relationship Id="rId4" Type="http://schemas.openxmlformats.org/officeDocument/2006/relationships/image" Target="../media/image77.jpeg"/><Relationship Id="rId5" Type="http://schemas.openxmlformats.org/officeDocument/2006/relationships/image" Target="../media/image78.jpeg"/><Relationship Id="rId6" Type="http://schemas.openxmlformats.org/officeDocument/2006/relationships/image" Target="../media/image79.jpeg"/><Relationship Id="rId7" Type="http://schemas.openxmlformats.org/officeDocument/2006/relationships/image" Target="../media/image80.jpe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png"/><Relationship Id="rId3" Type="http://schemas.openxmlformats.org/officeDocument/2006/relationships/audio" Target="../media/&#1084;&#1077;&#1076;&#1074;&#1077;&#1076;&#1100;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image" Target="../media/image27.png"/><Relationship Id="rId4" Type="http://schemas.openxmlformats.org/officeDocument/2006/relationships/image" Target="../media/image32.jpeg"/><Relationship Id="rId5" Type="http://schemas.openxmlformats.org/officeDocument/2006/relationships/image" Target="../media/image27.png"/><Relationship Id="rId6" Type="http://schemas.openxmlformats.org/officeDocument/2006/relationships/image" Target="../media/image33.jpeg"/><Relationship Id="rId7" Type="http://schemas.openxmlformats.org/officeDocument/2006/relationships/image" Target="../media/image27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image" Target="../media/image43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179280" y="733320"/>
            <a:ext cx="8785440" cy="5935680"/>
            <a:chOff x="179280" y="733320"/>
            <a:chExt cx="8785440" cy="5935680"/>
          </a:xfrm>
        </p:grpSpPr>
        <p:sp>
          <p:nvSpPr>
            <p:cNvPr id="42" name="AutoShape 3"/>
            <p:cNvSpPr/>
            <p:nvPr/>
          </p:nvSpPr>
          <p:spPr>
            <a:xfrm>
              <a:off x="179280" y="3933720"/>
              <a:ext cx="4248360" cy="273528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AutoShape 4"/>
            <p:cNvSpPr/>
            <p:nvPr/>
          </p:nvSpPr>
          <p:spPr>
            <a:xfrm>
              <a:off x="4716360" y="3933720"/>
              <a:ext cx="4248360" cy="273528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AutoShape 5"/>
            <p:cNvSpPr/>
            <p:nvPr/>
          </p:nvSpPr>
          <p:spPr>
            <a:xfrm>
              <a:off x="179280" y="981000"/>
              <a:ext cx="4248360" cy="273528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AutoShape 6"/>
            <p:cNvSpPr/>
            <p:nvPr/>
          </p:nvSpPr>
          <p:spPr>
            <a:xfrm>
              <a:off x="4716360" y="981000"/>
              <a:ext cx="4248360" cy="273528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6" name="Picture 7" descr="Синица"/>
            <p:cNvPicPr/>
            <p:nvPr/>
          </p:nvPicPr>
          <p:blipFill>
            <a:blip r:embed="rId1"/>
            <a:stretch/>
          </p:blipFill>
          <p:spPr>
            <a:xfrm>
              <a:off x="2038320" y="914400"/>
              <a:ext cx="2617920" cy="177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" name="Picture 8" descr="ВИНОГРАД"/>
            <p:cNvPicPr/>
            <p:nvPr/>
          </p:nvPicPr>
          <p:blipFill>
            <a:blip r:embed="rId2"/>
            <a:stretch/>
          </p:blipFill>
          <p:spPr>
            <a:xfrm flipH="1" rot="21544200">
              <a:off x="250560" y="1988640"/>
              <a:ext cx="1069920" cy="171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" name="Picture 9" descr="КРЫЖОВНИК"/>
            <p:cNvPicPr/>
            <p:nvPr/>
          </p:nvPicPr>
          <p:blipFill>
            <a:blip r:embed="rId3"/>
            <a:stretch/>
          </p:blipFill>
          <p:spPr>
            <a:xfrm>
              <a:off x="324000" y="855720"/>
              <a:ext cx="2303280" cy="1563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Picture 10" descr="МАЛИНА"/>
            <p:cNvPicPr/>
            <p:nvPr/>
          </p:nvPicPr>
          <p:blipFill>
            <a:blip r:embed="rId4"/>
            <a:stretch/>
          </p:blipFill>
          <p:spPr>
            <a:xfrm>
              <a:off x="1835280" y="2301840"/>
              <a:ext cx="1730160" cy="1370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Picture 11" descr="прр"/>
            <p:cNvPicPr/>
            <p:nvPr/>
          </p:nvPicPr>
          <p:blipFill>
            <a:blip r:embed="rId5"/>
            <a:stretch/>
          </p:blipFill>
          <p:spPr>
            <a:xfrm>
              <a:off x="971640" y="5734080"/>
              <a:ext cx="1655640" cy="89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Picture 12" descr="колокольчик"/>
            <p:cNvPicPr/>
            <p:nvPr/>
          </p:nvPicPr>
          <p:blipFill>
            <a:blip r:embed="rId6"/>
            <a:stretch/>
          </p:blipFill>
          <p:spPr>
            <a:xfrm>
              <a:off x="3059280" y="4365720"/>
              <a:ext cx="1271520" cy="211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" name="Picture 13" descr="Ландыш"/>
            <p:cNvPicPr/>
            <p:nvPr/>
          </p:nvPicPr>
          <p:blipFill>
            <a:blip r:embed="rId7"/>
            <a:stretch/>
          </p:blipFill>
          <p:spPr>
            <a:xfrm>
              <a:off x="1835280" y="4076640"/>
              <a:ext cx="1407960" cy="1944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Picture 14" descr="одуванчик"/>
            <p:cNvPicPr/>
            <p:nvPr/>
          </p:nvPicPr>
          <p:blipFill>
            <a:blip r:embed="rId8"/>
            <a:stretch/>
          </p:blipFill>
          <p:spPr>
            <a:xfrm>
              <a:off x="270000" y="4005360"/>
              <a:ext cx="1290600" cy="187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Picture 15" descr="КАБАН"/>
            <p:cNvPicPr/>
            <p:nvPr/>
          </p:nvPicPr>
          <p:blipFill>
            <a:blip r:embed="rId9"/>
            <a:stretch/>
          </p:blipFill>
          <p:spPr>
            <a:xfrm>
              <a:off x="4788000" y="4005360"/>
              <a:ext cx="1361880" cy="1033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Picture 16" descr="СОСНА"/>
            <p:cNvPicPr/>
            <p:nvPr/>
          </p:nvPicPr>
          <p:blipFill>
            <a:blip r:embed="rId10"/>
            <a:stretch/>
          </p:blipFill>
          <p:spPr>
            <a:xfrm>
              <a:off x="6084720" y="4149720"/>
              <a:ext cx="1579680" cy="223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Picture 17" descr="БЕРЁЗА"/>
            <p:cNvPicPr/>
            <p:nvPr/>
          </p:nvPicPr>
          <p:blipFill>
            <a:blip r:embed="rId11"/>
            <a:stretch/>
          </p:blipFill>
          <p:spPr>
            <a:xfrm>
              <a:off x="4788000" y="5013360"/>
              <a:ext cx="1149120" cy="162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" name="Picture 18" descr="ДУБ"/>
            <p:cNvPicPr/>
            <p:nvPr/>
          </p:nvPicPr>
          <p:blipFill>
            <a:blip r:embed="rId12"/>
            <a:stretch/>
          </p:blipFill>
          <p:spPr>
            <a:xfrm>
              <a:off x="7740720" y="4437000"/>
              <a:ext cx="1085760" cy="144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" name="Picture 19" descr="Божья коровка"/>
            <p:cNvPicPr/>
            <p:nvPr/>
          </p:nvPicPr>
          <p:blipFill>
            <a:blip r:embed="rId13"/>
            <a:stretch/>
          </p:blipFill>
          <p:spPr>
            <a:xfrm>
              <a:off x="7451640" y="2492280"/>
              <a:ext cx="1355760" cy="1022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" name="Picture 20" descr="ПЕРЕЦ"/>
            <p:cNvPicPr/>
            <p:nvPr/>
          </p:nvPicPr>
          <p:blipFill>
            <a:blip r:embed="rId14"/>
            <a:stretch/>
          </p:blipFill>
          <p:spPr>
            <a:xfrm>
              <a:off x="5148360" y="2228760"/>
              <a:ext cx="1295280" cy="1755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" name="Picture 21" descr="КАПУСТА"/>
            <p:cNvPicPr/>
            <p:nvPr/>
          </p:nvPicPr>
          <p:blipFill>
            <a:blip r:embed="rId15"/>
            <a:stretch/>
          </p:blipFill>
          <p:spPr>
            <a:xfrm>
              <a:off x="6794640" y="988920"/>
              <a:ext cx="1355760" cy="185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" name="Picture 22" descr="ЛУК"/>
            <p:cNvPicPr/>
            <p:nvPr/>
          </p:nvPicPr>
          <p:blipFill>
            <a:blip r:embed="rId16"/>
            <a:stretch/>
          </p:blipFill>
          <p:spPr>
            <a:xfrm>
              <a:off x="4932360" y="733320"/>
              <a:ext cx="1476360" cy="2121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" name="Rectangle 23"/>
          <p:cNvSpPr/>
          <p:nvPr/>
        </p:nvSpPr>
        <p:spPr>
          <a:xfrm>
            <a:off x="684360" y="115920"/>
            <a:ext cx="8229600" cy="69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Arial"/>
              </a:rPr>
              <a:t>Игра «Четвёртый лишний»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Freeform 24"/>
          <p:cNvSpPr/>
          <p:nvPr/>
        </p:nvSpPr>
        <p:spPr>
          <a:xfrm>
            <a:off x="2484360" y="981000"/>
            <a:ext cx="1822680" cy="1798560"/>
          </a:xfrm>
          <a:custGeom>
            <a:avLst/>
            <a:gdLst>
              <a:gd name="textAreaLeft" fmla="*/ 0 w 1822680"/>
              <a:gd name="textAreaRight" fmla="*/ 1823040 w 1822680"/>
              <a:gd name="textAreaTop" fmla="*/ 0 h 1798560"/>
              <a:gd name="textAreaBottom" fmla="*/ 1798920 h 1798560"/>
            </a:gdLst>
            <a:ahLst/>
            <a:rect l="textAreaLeft" t="textAreaTop" r="textAreaRight" b="textAreaBottom"/>
            <a:pathLst>
              <a:path w="1148" h="1224">
                <a:moveTo>
                  <a:pt x="786" y="348"/>
                </a:moveTo>
                <a:cubicBezTo>
                  <a:pt x="642" y="272"/>
                  <a:pt x="362" y="159"/>
                  <a:pt x="241" y="121"/>
                </a:cubicBezTo>
                <a:cubicBezTo>
                  <a:pt x="120" y="83"/>
                  <a:pt x="90" y="0"/>
                  <a:pt x="60" y="121"/>
                </a:cubicBezTo>
                <a:cubicBezTo>
                  <a:pt x="30" y="242"/>
                  <a:pt x="0" y="719"/>
                  <a:pt x="60" y="847"/>
                </a:cubicBezTo>
                <a:cubicBezTo>
                  <a:pt x="120" y="975"/>
                  <a:pt x="325" y="877"/>
                  <a:pt x="423" y="892"/>
                </a:cubicBezTo>
                <a:cubicBezTo>
                  <a:pt x="521" y="907"/>
                  <a:pt x="544" y="893"/>
                  <a:pt x="650" y="938"/>
                </a:cubicBezTo>
                <a:cubicBezTo>
                  <a:pt x="756" y="983"/>
                  <a:pt x="983" y="1224"/>
                  <a:pt x="1058" y="1164"/>
                </a:cubicBezTo>
                <a:cubicBezTo>
                  <a:pt x="1133" y="1104"/>
                  <a:pt x="1148" y="711"/>
                  <a:pt x="1103" y="575"/>
                </a:cubicBezTo>
                <a:cubicBezTo>
                  <a:pt x="1058" y="439"/>
                  <a:pt x="930" y="424"/>
                  <a:pt x="786" y="348"/>
                </a:cubicBezTo>
                <a:close/>
              </a:path>
            </a:pathLst>
          </a:custGeom>
          <a:solidFill>
            <a:srgbClr val="fe0000">
              <a:alpha val="10000"/>
            </a:srgbClr>
          </a:solidFill>
          <a:ln w="9360">
            <a:solidFill>
              <a:srgbClr val="fe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Freeform 25"/>
          <p:cNvSpPr/>
          <p:nvPr/>
        </p:nvSpPr>
        <p:spPr>
          <a:xfrm>
            <a:off x="7272360" y="2301840"/>
            <a:ext cx="1681200" cy="1306440"/>
          </a:xfrm>
          <a:custGeom>
            <a:avLst/>
            <a:gdLst>
              <a:gd name="textAreaLeft" fmla="*/ 0 w 1681200"/>
              <a:gd name="textAreaRight" fmla="*/ 1681560 w 1681200"/>
              <a:gd name="textAreaTop" fmla="*/ 0 h 1306440"/>
              <a:gd name="textAreaBottom" fmla="*/ 1306440 h 1306440"/>
            </a:gdLst>
            <a:ahLst/>
            <a:rect l="textAreaLeft" t="textAreaTop" r="textAreaRight" b="textAreaBottom"/>
            <a:pathLst>
              <a:path w="1059" h="823">
                <a:moveTo>
                  <a:pt x="1021" y="256"/>
                </a:moveTo>
                <a:cubicBezTo>
                  <a:pt x="983" y="188"/>
                  <a:pt x="877" y="60"/>
                  <a:pt x="794" y="30"/>
                </a:cubicBezTo>
                <a:cubicBezTo>
                  <a:pt x="711" y="0"/>
                  <a:pt x="643" y="22"/>
                  <a:pt x="522" y="75"/>
                </a:cubicBezTo>
                <a:cubicBezTo>
                  <a:pt x="401" y="128"/>
                  <a:pt x="136" y="234"/>
                  <a:pt x="68" y="347"/>
                </a:cubicBezTo>
                <a:cubicBezTo>
                  <a:pt x="0" y="460"/>
                  <a:pt x="22" y="687"/>
                  <a:pt x="113" y="755"/>
                </a:cubicBezTo>
                <a:cubicBezTo>
                  <a:pt x="204" y="823"/>
                  <a:pt x="491" y="770"/>
                  <a:pt x="612" y="755"/>
                </a:cubicBezTo>
                <a:cubicBezTo>
                  <a:pt x="733" y="740"/>
                  <a:pt x="771" y="718"/>
                  <a:pt x="839" y="665"/>
                </a:cubicBezTo>
                <a:cubicBezTo>
                  <a:pt x="907" y="612"/>
                  <a:pt x="991" y="506"/>
                  <a:pt x="1021" y="438"/>
                </a:cubicBezTo>
                <a:cubicBezTo>
                  <a:pt x="1051" y="370"/>
                  <a:pt x="1059" y="324"/>
                  <a:pt x="1021" y="256"/>
                </a:cubicBezTo>
                <a:close/>
              </a:path>
            </a:pathLst>
          </a:custGeom>
          <a:solidFill>
            <a:srgbClr val="ff0000">
              <a:alpha val="10000"/>
            </a:srgbClr>
          </a:solidFill>
          <a:ln w="12600">
            <a:solidFill>
              <a:srgbClr val="fe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Freeform 26"/>
          <p:cNvSpPr/>
          <p:nvPr/>
        </p:nvSpPr>
        <p:spPr>
          <a:xfrm>
            <a:off x="695160" y="5649840"/>
            <a:ext cx="2017800" cy="959040"/>
          </a:xfrm>
          <a:custGeom>
            <a:avLst/>
            <a:gdLst>
              <a:gd name="textAreaLeft" fmla="*/ 0 w 2017800"/>
              <a:gd name="textAreaRight" fmla="*/ 2018160 w 2017800"/>
              <a:gd name="textAreaTop" fmla="*/ 0 h 959040"/>
              <a:gd name="textAreaBottom" fmla="*/ 959400 h 959040"/>
            </a:gdLst>
            <a:ahLst/>
            <a:rect l="textAreaLeft" t="textAreaTop" r="textAreaRight" b="textAreaBottom"/>
            <a:pathLst>
              <a:path w="1271" h="604">
                <a:moveTo>
                  <a:pt x="1263" y="370"/>
                </a:moveTo>
                <a:cubicBezTo>
                  <a:pt x="1255" y="302"/>
                  <a:pt x="1157" y="203"/>
                  <a:pt x="1081" y="143"/>
                </a:cubicBezTo>
                <a:cubicBezTo>
                  <a:pt x="1005" y="83"/>
                  <a:pt x="937" y="14"/>
                  <a:pt x="809" y="7"/>
                </a:cubicBezTo>
                <a:cubicBezTo>
                  <a:pt x="681" y="0"/>
                  <a:pt x="438" y="53"/>
                  <a:pt x="310" y="98"/>
                </a:cubicBezTo>
                <a:cubicBezTo>
                  <a:pt x="182" y="143"/>
                  <a:pt x="76" y="211"/>
                  <a:pt x="38" y="279"/>
                </a:cubicBezTo>
                <a:cubicBezTo>
                  <a:pt x="0" y="347"/>
                  <a:pt x="0" y="453"/>
                  <a:pt x="83" y="506"/>
                </a:cubicBezTo>
                <a:cubicBezTo>
                  <a:pt x="166" y="559"/>
                  <a:pt x="363" y="590"/>
                  <a:pt x="537" y="597"/>
                </a:cubicBezTo>
                <a:cubicBezTo>
                  <a:pt x="711" y="604"/>
                  <a:pt x="1006" y="589"/>
                  <a:pt x="1127" y="551"/>
                </a:cubicBezTo>
                <a:cubicBezTo>
                  <a:pt x="1248" y="513"/>
                  <a:pt x="1271" y="438"/>
                  <a:pt x="1263" y="370"/>
                </a:cubicBezTo>
                <a:close/>
              </a:path>
            </a:pathLst>
          </a:custGeom>
          <a:solidFill>
            <a:srgbClr val="ff0000">
              <a:alpha val="10000"/>
            </a:srgbClr>
          </a:solidFill>
          <a:ln w="12600">
            <a:solidFill>
              <a:srgbClr val="fe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Freeform 27"/>
          <p:cNvSpPr/>
          <p:nvPr/>
        </p:nvSpPr>
        <p:spPr>
          <a:xfrm>
            <a:off x="4751280" y="3933720"/>
            <a:ext cx="1393920" cy="1174680"/>
          </a:xfrm>
          <a:custGeom>
            <a:avLst/>
            <a:gdLst>
              <a:gd name="textAreaLeft" fmla="*/ 0 w 1393920"/>
              <a:gd name="textAreaRight" fmla="*/ 1394280 w 1393920"/>
              <a:gd name="textAreaTop" fmla="*/ 0 h 1174680"/>
              <a:gd name="textAreaBottom" fmla="*/ 1175040 h 1174680"/>
            </a:gdLst>
            <a:ahLst/>
            <a:rect l="textAreaLeft" t="textAreaTop" r="textAreaRight" b="textAreaBottom"/>
            <a:pathLst>
              <a:path w="878" h="740">
                <a:moveTo>
                  <a:pt x="68" y="90"/>
                </a:moveTo>
                <a:cubicBezTo>
                  <a:pt x="113" y="37"/>
                  <a:pt x="204" y="52"/>
                  <a:pt x="295" y="45"/>
                </a:cubicBezTo>
                <a:cubicBezTo>
                  <a:pt x="386" y="38"/>
                  <a:pt x="522" y="0"/>
                  <a:pt x="613" y="45"/>
                </a:cubicBezTo>
                <a:cubicBezTo>
                  <a:pt x="704" y="90"/>
                  <a:pt x="802" y="219"/>
                  <a:pt x="840" y="317"/>
                </a:cubicBezTo>
                <a:cubicBezTo>
                  <a:pt x="878" y="415"/>
                  <a:pt x="878" y="567"/>
                  <a:pt x="840" y="635"/>
                </a:cubicBezTo>
                <a:cubicBezTo>
                  <a:pt x="802" y="703"/>
                  <a:pt x="719" y="718"/>
                  <a:pt x="613" y="725"/>
                </a:cubicBezTo>
                <a:cubicBezTo>
                  <a:pt x="507" y="732"/>
                  <a:pt x="303" y="740"/>
                  <a:pt x="205" y="680"/>
                </a:cubicBezTo>
                <a:cubicBezTo>
                  <a:pt x="107" y="620"/>
                  <a:pt x="46" y="460"/>
                  <a:pt x="23" y="362"/>
                </a:cubicBezTo>
                <a:cubicBezTo>
                  <a:pt x="0" y="264"/>
                  <a:pt x="23" y="143"/>
                  <a:pt x="68" y="90"/>
                </a:cubicBezTo>
                <a:close/>
              </a:path>
            </a:pathLst>
          </a:custGeom>
          <a:solidFill>
            <a:srgbClr val="ff0000">
              <a:alpha val="10000"/>
            </a:srgbClr>
          </a:solidFill>
          <a:ln w="12600">
            <a:solidFill>
              <a:srgbClr val="fe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volk"/>
          <p:cNvPicPr/>
          <p:nvPr/>
        </p:nvPicPr>
        <p:blipFill>
          <a:blip r:embed="rId1"/>
          <a:stretch/>
        </p:blipFill>
        <p:spPr>
          <a:xfrm>
            <a:off x="322200" y="622440"/>
            <a:ext cx="3476520" cy="5040000"/>
          </a:xfrm>
          <a:prstGeom prst="rect">
            <a:avLst/>
          </a:prstGeom>
          <a:ln w="25560">
            <a:solidFill>
              <a:srgbClr val="ff0000"/>
            </a:solidFill>
            <a:miter/>
          </a:ln>
        </p:spPr>
      </p:pic>
      <p:sp>
        <p:nvSpPr>
          <p:cNvPr id="132" name="Text Box 3"/>
          <p:cNvSpPr/>
          <p:nvPr/>
        </p:nvSpPr>
        <p:spPr>
          <a:xfrm>
            <a:off x="2700360" y="5445000"/>
            <a:ext cx="1511280" cy="520560"/>
          </a:xfrm>
          <a:prstGeom prst="rect">
            <a:avLst/>
          </a:prstGeom>
          <a:solidFill>
            <a:srgbClr val="ffff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Вол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Picture 4" descr="7_32"/>
          <p:cNvPicPr/>
          <p:nvPr/>
        </p:nvPicPr>
        <p:blipFill>
          <a:blip r:embed="rId2"/>
          <a:stretch/>
        </p:blipFill>
        <p:spPr>
          <a:xfrm>
            <a:off x="4140360" y="189000"/>
            <a:ext cx="3384360" cy="2468520"/>
          </a:xfrm>
          <a:prstGeom prst="rect">
            <a:avLst/>
          </a:prstGeom>
          <a:ln w="25560">
            <a:solidFill>
              <a:srgbClr val="ff0000"/>
            </a:solidFill>
            <a:miter/>
          </a:ln>
        </p:spPr>
      </p:pic>
      <p:sp>
        <p:nvSpPr>
          <p:cNvPr id="134" name="Text Box 5"/>
          <p:cNvSpPr/>
          <p:nvPr/>
        </p:nvSpPr>
        <p:spPr>
          <a:xfrm>
            <a:off x="7164360" y="333360"/>
            <a:ext cx="1582920" cy="520560"/>
          </a:xfrm>
          <a:prstGeom prst="rect">
            <a:avLst/>
          </a:prstGeom>
          <a:solidFill>
            <a:srgbClr val="ffff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Лис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6" descr="6266"/>
          <p:cNvPicPr/>
          <p:nvPr/>
        </p:nvPicPr>
        <p:blipFill>
          <a:blip r:embed="rId3"/>
          <a:stretch/>
        </p:blipFill>
        <p:spPr>
          <a:xfrm>
            <a:off x="5219640" y="2852640"/>
            <a:ext cx="2519280" cy="3745080"/>
          </a:xfrm>
          <a:prstGeom prst="rect">
            <a:avLst/>
          </a:prstGeom>
          <a:ln w="25560">
            <a:solidFill>
              <a:srgbClr val="ff0000"/>
            </a:solidFill>
            <a:miter/>
          </a:ln>
        </p:spPr>
      </p:pic>
      <p:sp>
        <p:nvSpPr>
          <p:cNvPr id="136" name="Text Box 7"/>
          <p:cNvSpPr/>
          <p:nvPr/>
        </p:nvSpPr>
        <p:spPr>
          <a:xfrm>
            <a:off x="5364000" y="6237360"/>
            <a:ext cx="3527640" cy="459720"/>
          </a:xfrm>
          <a:prstGeom prst="rect">
            <a:avLst/>
          </a:prstGeom>
          <a:solidFill>
            <a:srgbClr val="ffff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Енотовидная соба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ДРОЗД"/>
          <p:cNvPicPr/>
          <p:nvPr/>
        </p:nvPicPr>
        <p:blipFill>
          <a:blip r:embed="rId1"/>
          <a:stretch/>
        </p:blipFill>
        <p:spPr>
          <a:xfrm>
            <a:off x="2340000" y="3860640"/>
            <a:ext cx="3313080" cy="2548080"/>
          </a:xfrm>
          <a:prstGeom prst="rect">
            <a:avLst/>
          </a:prstGeom>
          <a:ln w="25560">
            <a:solidFill>
              <a:srgbClr val="ff0000"/>
            </a:solidFill>
            <a:miter/>
          </a:ln>
        </p:spPr>
      </p:pic>
      <p:pic>
        <p:nvPicPr>
          <p:cNvPr id="138" name="Picture 3" descr="горная трясогузка"/>
          <p:cNvPicPr/>
          <p:nvPr/>
        </p:nvPicPr>
        <p:blipFill>
          <a:blip r:embed="rId2"/>
          <a:stretch/>
        </p:blipFill>
        <p:spPr>
          <a:xfrm>
            <a:off x="4932360" y="189000"/>
            <a:ext cx="3816360" cy="2862000"/>
          </a:xfrm>
          <a:prstGeom prst="rect">
            <a:avLst/>
          </a:prstGeom>
          <a:ln w="25560">
            <a:solidFill>
              <a:srgbClr val="ff0000"/>
            </a:solidFill>
            <a:miter/>
          </a:ln>
        </p:spPr>
      </p:pic>
      <p:pic>
        <p:nvPicPr>
          <p:cNvPr id="139" name="Picture 4" descr="пеночка-теньковка"/>
          <p:cNvPicPr/>
          <p:nvPr/>
        </p:nvPicPr>
        <p:blipFill>
          <a:blip r:embed="rId3"/>
          <a:stretch/>
        </p:blipFill>
        <p:spPr>
          <a:xfrm>
            <a:off x="250920" y="189000"/>
            <a:ext cx="3671640" cy="2968560"/>
          </a:xfrm>
          <a:prstGeom prst="rect">
            <a:avLst/>
          </a:prstGeom>
          <a:ln w="25560">
            <a:solidFill>
              <a:srgbClr val="ff0000"/>
            </a:solidFill>
            <a:miter/>
          </a:ln>
        </p:spPr>
      </p:pic>
      <p:sp>
        <p:nvSpPr>
          <p:cNvPr id="140" name="Text Box 5"/>
          <p:cNvSpPr/>
          <p:nvPr/>
        </p:nvSpPr>
        <p:spPr>
          <a:xfrm>
            <a:off x="6084720" y="2492280"/>
            <a:ext cx="2806920" cy="947160"/>
          </a:xfrm>
          <a:prstGeom prst="rect">
            <a:avLst/>
          </a:prstGeom>
          <a:solidFill>
            <a:srgbClr val="ffff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Горная трясогуз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6"/>
          <p:cNvSpPr/>
          <p:nvPr/>
        </p:nvSpPr>
        <p:spPr>
          <a:xfrm>
            <a:off x="1763640" y="2565360"/>
            <a:ext cx="2592360" cy="947160"/>
          </a:xfrm>
          <a:prstGeom prst="rect">
            <a:avLst/>
          </a:prstGeom>
          <a:solidFill>
            <a:srgbClr val="ffff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еночка теньков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7"/>
          <p:cNvSpPr/>
          <p:nvPr/>
        </p:nvSpPr>
        <p:spPr>
          <a:xfrm>
            <a:off x="5076720" y="5661000"/>
            <a:ext cx="2592360" cy="947160"/>
          </a:xfrm>
          <a:prstGeom prst="rect">
            <a:avLst/>
          </a:prstGeom>
          <a:solidFill>
            <a:srgbClr val="ffff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евчий дроз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2" descr="бородач"/>
          <p:cNvPicPr/>
          <p:nvPr/>
        </p:nvPicPr>
        <p:blipFill>
          <a:blip r:embed="rId1"/>
          <a:stretch/>
        </p:blipFill>
        <p:spPr>
          <a:xfrm>
            <a:off x="250920" y="260280"/>
            <a:ext cx="3241440" cy="2193840"/>
          </a:xfrm>
          <a:prstGeom prst="rect">
            <a:avLst/>
          </a:prstGeom>
          <a:ln w="25560">
            <a:solidFill>
              <a:srgbClr val="ff0000"/>
            </a:solidFill>
            <a:miter/>
          </a:ln>
        </p:spPr>
      </p:pic>
      <p:pic>
        <p:nvPicPr>
          <p:cNvPr id="144" name="Picture 3" descr="белоголовый сип"/>
          <p:cNvPicPr/>
          <p:nvPr/>
        </p:nvPicPr>
        <p:blipFill>
          <a:blip r:embed="rId2"/>
          <a:stretch/>
        </p:blipFill>
        <p:spPr>
          <a:xfrm>
            <a:off x="5292720" y="765000"/>
            <a:ext cx="3619440" cy="4824720"/>
          </a:xfrm>
          <a:prstGeom prst="rect">
            <a:avLst/>
          </a:prstGeom>
          <a:ln w="25560">
            <a:solidFill>
              <a:srgbClr val="ff0000"/>
            </a:solidFill>
            <a:miter/>
          </a:ln>
        </p:spPr>
      </p:pic>
      <p:sp>
        <p:nvSpPr>
          <p:cNvPr id="145" name="Text Box 4"/>
          <p:cNvSpPr/>
          <p:nvPr/>
        </p:nvSpPr>
        <p:spPr>
          <a:xfrm>
            <a:off x="5076720" y="5013360"/>
            <a:ext cx="3708360" cy="1191240"/>
          </a:xfrm>
          <a:prstGeom prst="rect">
            <a:avLst/>
          </a:prstGeom>
          <a:solidFill>
            <a:srgbClr val="ffff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Белоголовый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сип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Picture 5" descr="беркут"/>
          <p:cNvPicPr/>
          <p:nvPr/>
        </p:nvPicPr>
        <p:blipFill>
          <a:blip r:embed="rId3"/>
          <a:stretch/>
        </p:blipFill>
        <p:spPr>
          <a:xfrm>
            <a:off x="1116000" y="2781360"/>
            <a:ext cx="3511440" cy="3897360"/>
          </a:xfrm>
          <a:prstGeom prst="rect">
            <a:avLst/>
          </a:prstGeom>
          <a:ln w="25560">
            <a:solidFill>
              <a:srgbClr val="ff0000"/>
            </a:solidFill>
            <a:miter/>
          </a:ln>
        </p:spPr>
      </p:pic>
      <p:sp>
        <p:nvSpPr>
          <p:cNvPr id="147" name="Text Box 6"/>
          <p:cNvSpPr/>
          <p:nvPr/>
        </p:nvSpPr>
        <p:spPr>
          <a:xfrm>
            <a:off x="324000" y="3068640"/>
            <a:ext cx="2232000" cy="642600"/>
          </a:xfrm>
          <a:prstGeom prst="rect">
            <a:avLst/>
          </a:prstGeom>
          <a:solidFill>
            <a:srgbClr val="ffff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Берку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7"/>
          <p:cNvSpPr/>
          <p:nvPr/>
        </p:nvSpPr>
        <p:spPr>
          <a:xfrm>
            <a:off x="1908000" y="189000"/>
            <a:ext cx="2519640" cy="642600"/>
          </a:xfrm>
          <a:prstGeom prst="rect">
            <a:avLst/>
          </a:prstGeom>
          <a:solidFill>
            <a:srgbClr val="ffff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Бородач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2" descr="завирушка лесная"/>
          <p:cNvPicPr/>
          <p:nvPr/>
        </p:nvPicPr>
        <p:blipFill>
          <a:blip r:embed="rId1"/>
          <a:stretch/>
        </p:blipFill>
        <p:spPr>
          <a:xfrm>
            <a:off x="395280" y="404640"/>
            <a:ext cx="2952720" cy="2221200"/>
          </a:xfrm>
          <a:prstGeom prst="rect">
            <a:avLst/>
          </a:prstGeom>
          <a:ln w="25560">
            <a:solidFill>
              <a:srgbClr val="ff0000"/>
            </a:solidFill>
            <a:miter/>
          </a:ln>
        </p:spPr>
      </p:pic>
      <p:sp>
        <p:nvSpPr>
          <p:cNvPr id="150" name="Text Box 3"/>
          <p:cNvSpPr/>
          <p:nvPr/>
        </p:nvSpPr>
        <p:spPr>
          <a:xfrm>
            <a:off x="755640" y="2492280"/>
            <a:ext cx="4319640" cy="581400"/>
          </a:xfrm>
          <a:prstGeom prst="rect">
            <a:avLst/>
          </a:prstGeom>
          <a:solidFill>
            <a:srgbClr val="ffff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Завирушка лесна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Picture 4" descr="сойка"/>
          <p:cNvPicPr/>
          <p:nvPr/>
        </p:nvPicPr>
        <p:blipFill>
          <a:blip r:embed="rId2"/>
          <a:stretch/>
        </p:blipFill>
        <p:spPr>
          <a:xfrm>
            <a:off x="250920" y="3714840"/>
            <a:ext cx="4086000" cy="2736720"/>
          </a:xfrm>
          <a:prstGeom prst="rect">
            <a:avLst/>
          </a:prstGeom>
          <a:ln w="25560">
            <a:solidFill>
              <a:srgbClr val="ff0000"/>
            </a:solidFill>
            <a:miter/>
          </a:ln>
        </p:spPr>
      </p:pic>
      <p:sp>
        <p:nvSpPr>
          <p:cNvPr id="152" name="Text Box 5"/>
          <p:cNvSpPr/>
          <p:nvPr/>
        </p:nvSpPr>
        <p:spPr>
          <a:xfrm>
            <a:off x="179280" y="6021360"/>
            <a:ext cx="2305080" cy="581400"/>
          </a:xfrm>
          <a:prstGeom prst="rect">
            <a:avLst/>
          </a:prstGeom>
          <a:solidFill>
            <a:srgbClr val="ffff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Сой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Picture 6" descr="луговой чекан"/>
          <p:cNvPicPr/>
          <p:nvPr/>
        </p:nvPicPr>
        <p:blipFill>
          <a:blip r:embed="rId3"/>
          <a:stretch/>
        </p:blipFill>
        <p:spPr>
          <a:xfrm>
            <a:off x="5940360" y="404640"/>
            <a:ext cx="2808360" cy="3044880"/>
          </a:xfrm>
          <a:prstGeom prst="rect">
            <a:avLst/>
          </a:prstGeom>
          <a:ln w="25560">
            <a:solidFill>
              <a:srgbClr val="ff0000"/>
            </a:solidFill>
            <a:miter/>
          </a:ln>
        </p:spPr>
      </p:pic>
      <p:sp>
        <p:nvSpPr>
          <p:cNvPr id="154" name="Text Box 7"/>
          <p:cNvSpPr/>
          <p:nvPr/>
        </p:nvSpPr>
        <p:spPr>
          <a:xfrm>
            <a:off x="4859280" y="260280"/>
            <a:ext cx="3743280" cy="581400"/>
          </a:xfrm>
          <a:prstGeom prst="rect">
            <a:avLst/>
          </a:prstGeom>
          <a:solidFill>
            <a:srgbClr val="ffff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Луговой чека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8" descr="кавказский улар"/>
          <p:cNvPicPr/>
          <p:nvPr/>
        </p:nvPicPr>
        <p:blipFill>
          <a:blip r:embed="rId4"/>
          <a:stretch/>
        </p:blipFill>
        <p:spPr>
          <a:xfrm>
            <a:off x="5148360" y="3789360"/>
            <a:ext cx="3022560" cy="2386080"/>
          </a:xfrm>
          <a:prstGeom prst="rect">
            <a:avLst/>
          </a:prstGeom>
          <a:ln w="25560">
            <a:solidFill>
              <a:srgbClr val="ff0000"/>
            </a:solidFill>
            <a:miter/>
          </a:ln>
        </p:spPr>
      </p:pic>
      <p:sp>
        <p:nvSpPr>
          <p:cNvPr id="156" name="Text Box 9"/>
          <p:cNvSpPr/>
          <p:nvPr/>
        </p:nvSpPr>
        <p:spPr>
          <a:xfrm>
            <a:off x="5435640" y="6093000"/>
            <a:ext cx="3384360" cy="520560"/>
          </a:xfrm>
          <a:prstGeom prst="rect">
            <a:avLst/>
          </a:prstGeom>
          <a:solidFill>
            <a:srgbClr val="ffff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Кавказский ула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2" descr="Бабочка дневной павлиний глаз"/>
          <p:cNvPicPr/>
          <p:nvPr/>
        </p:nvPicPr>
        <p:blipFill>
          <a:blip r:embed="rId1"/>
          <a:stretch/>
        </p:blipFill>
        <p:spPr>
          <a:xfrm>
            <a:off x="5724360" y="260280"/>
            <a:ext cx="3162600" cy="2718000"/>
          </a:xfrm>
          <a:prstGeom prst="rect">
            <a:avLst/>
          </a:prstGeom>
          <a:ln w="25560">
            <a:solidFill>
              <a:srgbClr val="ff0000"/>
            </a:solidFill>
            <a:miter/>
          </a:ln>
        </p:spPr>
      </p:pic>
      <p:sp>
        <p:nvSpPr>
          <p:cNvPr id="158" name="Text Box 3"/>
          <p:cNvSpPr/>
          <p:nvPr/>
        </p:nvSpPr>
        <p:spPr>
          <a:xfrm>
            <a:off x="5148360" y="2565360"/>
            <a:ext cx="3529080" cy="947160"/>
          </a:xfrm>
          <a:prstGeom prst="rect">
            <a:avLst/>
          </a:prstGeom>
          <a:solidFill>
            <a:srgbClr val="ffff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Бабочка дневной павлиний гла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Picture 4" descr="сверчок"/>
          <p:cNvPicPr/>
          <p:nvPr/>
        </p:nvPicPr>
        <p:blipFill>
          <a:blip r:embed="rId2"/>
          <a:stretch/>
        </p:blipFill>
        <p:spPr>
          <a:xfrm>
            <a:off x="250920" y="3860640"/>
            <a:ext cx="3889440" cy="2643480"/>
          </a:xfrm>
          <a:prstGeom prst="rect">
            <a:avLst/>
          </a:prstGeom>
          <a:ln w="25560">
            <a:solidFill>
              <a:srgbClr val="ff0000"/>
            </a:solidFill>
            <a:miter/>
          </a:ln>
        </p:spPr>
      </p:pic>
      <p:pic>
        <p:nvPicPr>
          <p:cNvPr id="160" name="Picture 5" descr="кузнечик"/>
          <p:cNvPicPr/>
          <p:nvPr/>
        </p:nvPicPr>
        <p:blipFill>
          <a:blip r:embed="rId3"/>
          <a:stretch/>
        </p:blipFill>
        <p:spPr>
          <a:xfrm>
            <a:off x="250920" y="476280"/>
            <a:ext cx="4249800" cy="2790720"/>
          </a:xfrm>
          <a:prstGeom prst="rect">
            <a:avLst/>
          </a:prstGeom>
          <a:ln w="25560">
            <a:solidFill>
              <a:srgbClr val="ff0000"/>
            </a:solidFill>
            <a:miter/>
          </a:ln>
        </p:spPr>
      </p:pic>
      <p:sp>
        <p:nvSpPr>
          <p:cNvPr id="161" name="Text Box 6"/>
          <p:cNvSpPr/>
          <p:nvPr/>
        </p:nvSpPr>
        <p:spPr>
          <a:xfrm>
            <a:off x="2340000" y="3645000"/>
            <a:ext cx="2087640" cy="520560"/>
          </a:xfrm>
          <a:prstGeom prst="rect">
            <a:avLst/>
          </a:prstGeom>
          <a:solidFill>
            <a:srgbClr val="ffff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Сверчо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7"/>
          <p:cNvSpPr/>
          <p:nvPr/>
        </p:nvSpPr>
        <p:spPr>
          <a:xfrm>
            <a:off x="108000" y="189000"/>
            <a:ext cx="2089080" cy="520560"/>
          </a:xfrm>
          <a:prstGeom prst="rect">
            <a:avLst/>
          </a:prstGeom>
          <a:solidFill>
            <a:srgbClr val="ffff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Кузнечи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Picture 8" descr="цикада"/>
          <p:cNvPicPr/>
          <p:nvPr/>
        </p:nvPicPr>
        <p:blipFill>
          <a:blip r:embed="rId4"/>
          <a:stretch/>
        </p:blipFill>
        <p:spPr>
          <a:xfrm>
            <a:off x="5148360" y="3860640"/>
            <a:ext cx="3600360" cy="2579760"/>
          </a:xfrm>
          <a:prstGeom prst="rect">
            <a:avLst/>
          </a:prstGeom>
          <a:ln w="25560">
            <a:solidFill>
              <a:srgbClr val="ff0000"/>
            </a:solidFill>
            <a:miter/>
          </a:ln>
        </p:spPr>
      </p:pic>
      <p:sp>
        <p:nvSpPr>
          <p:cNvPr id="164" name="Text Box 9"/>
          <p:cNvSpPr/>
          <p:nvPr/>
        </p:nvSpPr>
        <p:spPr>
          <a:xfrm>
            <a:off x="4932360" y="6093000"/>
            <a:ext cx="1506600" cy="520560"/>
          </a:xfrm>
          <a:prstGeom prst="rect">
            <a:avLst/>
          </a:prstGeom>
          <a:solidFill>
            <a:srgbClr val="ffff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Цикад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2" descr="голавль"/>
          <p:cNvPicPr/>
          <p:nvPr/>
        </p:nvPicPr>
        <p:blipFill>
          <a:blip r:embed="rId2"/>
          <a:stretch/>
        </p:blipFill>
        <p:spPr>
          <a:xfrm>
            <a:off x="395280" y="549360"/>
            <a:ext cx="2879640" cy="1495440"/>
          </a:xfrm>
          <a:prstGeom prst="rect">
            <a:avLst/>
          </a:prstGeom>
          <a:ln w="25560">
            <a:solidFill>
              <a:srgbClr val="ff0000"/>
            </a:solidFill>
            <a:miter/>
          </a:ln>
        </p:spPr>
      </p:pic>
      <p:sp>
        <p:nvSpPr>
          <p:cNvPr id="166" name="Text Box 3"/>
          <p:cNvSpPr/>
          <p:nvPr/>
        </p:nvSpPr>
        <p:spPr>
          <a:xfrm>
            <a:off x="1763640" y="260280"/>
            <a:ext cx="1873440" cy="520560"/>
          </a:xfrm>
          <a:prstGeom prst="rect">
            <a:avLst/>
          </a:prstGeom>
          <a:solidFill>
            <a:srgbClr val="ffff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Голавл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Picture 4" descr="голец"/>
          <p:cNvPicPr/>
          <p:nvPr/>
        </p:nvPicPr>
        <p:blipFill>
          <a:blip r:embed="rId3"/>
          <a:stretch/>
        </p:blipFill>
        <p:spPr>
          <a:xfrm>
            <a:off x="754200" y="2421000"/>
            <a:ext cx="2808000" cy="1966680"/>
          </a:xfrm>
          <a:prstGeom prst="rect">
            <a:avLst/>
          </a:prstGeom>
          <a:ln w="25560">
            <a:solidFill>
              <a:srgbClr val="ff0000"/>
            </a:solidFill>
            <a:miter/>
          </a:ln>
        </p:spPr>
      </p:pic>
      <p:pic>
        <p:nvPicPr>
          <p:cNvPr id="168" name="Picture 5" descr="гольян озёрный"/>
          <p:cNvPicPr/>
          <p:nvPr/>
        </p:nvPicPr>
        <p:blipFill>
          <a:blip r:embed="rId4"/>
          <a:stretch/>
        </p:blipFill>
        <p:spPr>
          <a:xfrm>
            <a:off x="250920" y="4724280"/>
            <a:ext cx="3132000" cy="1513080"/>
          </a:xfrm>
          <a:prstGeom prst="rect">
            <a:avLst/>
          </a:prstGeom>
          <a:ln w="25560">
            <a:solidFill>
              <a:srgbClr val="ff0000"/>
            </a:solidFill>
            <a:miter/>
          </a:ln>
        </p:spPr>
      </p:pic>
      <p:sp>
        <p:nvSpPr>
          <p:cNvPr id="169" name="Text Box 6"/>
          <p:cNvSpPr/>
          <p:nvPr/>
        </p:nvSpPr>
        <p:spPr>
          <a:xfrm>
            <a:off x="611280" y="2349360"/>
            <a:ext cx="1728720" cy="520560"/>
          </a:xfrm>
          <a:prstGeom prst="rect">
            <a:avLst/>
          </a:prstGeom>
          <a:solidFill>
            <a:srgbClr val="ffff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Голе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7"/>
          <p:cNvSpPr/>
          <p:nvPr/>
        </p:nvSpPr>
        <p:spPr>
          <a:xfrm>
            <a:off x="611280" y="6165720"/>
            <a:ext cx="3168720" cy="520560"/>
          </a:xfrm>
          <a:prstGeom prst="rect">
            <a:avLst/>
          </a:prstGeom>
          <a:solidFill>
            <a:srgbClr val="ffff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Гольян-озёрны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Picture 8" descr="быстрянка"/>
          <p:cNvPicPr/>
          <p:nvPr/>
        </p:nvPicPr>
        <p:blipFill>
          <a:blip r:embed="rId5"/>
          <a:stretch/>
        </p:blipFill>
        <p:spPr>
          <a:xfrm>
            <a:off x="5580000" y="264960"/>
            <a:ext cx="3024360" cy="1554480"/>
          </a:xfrm>
          <a:prstGeom prst="rect">
            <a:avLst/>
          </a:prstGeom>
          <a:ln w="25560">
            <a:solidFill>
              <a:srgbClr val="ff0000"/>
            </a:solidFill>
            <a:miter/>
          </a:ln>
        </p:spPr>
      </p:pic>
      <p:pic>
        <p:nvPicPr>
          <p:cNvPr id="172" name="Picture 9" descr="усач"/>
          <p:cNvPicPr/>
          <p:nvPr/>
        </p:nvPicPr>
        <p:blipFill>
          <a:blip r:embed="rId6"/>
          <a:stretch/>
        </p:blipFill>
        <p:spPr>
          <a:xfrm>
            <a:off x="5796000" y="4797360"/>
            <a:ext cx="2841480" cy="1916280"/>
          </a:xfrm>
          <a:prstGeom prst="rect">
            <a:avLst/>
          </a:prstGeom>
          <a:ln w="25560">
            <a:solidFill>
              <a:srgbClr val="ff0000"/>
            </a:solidFill>
            <a:miter/>
          </a:ln>
        </p:spPr>
      </p:pic>
      <p:sp>
        <p:nvSpPr>
          <p:cNvPr id="173" name="Text Box 10"/>
          <p:cNvSpPr/>
          <p:nvPr/>
        </p:nvSpPr>
        <p:spPr>
          <a:xfrm>
            <a:off x="5219640" y="1557360"/>
            <a:ext cx="2305080" cy="520560"/>
          </a:xfrm>
          <a:prstGeom prst="rect">
            <a:avLst/>
          </a:prstGeom>
          <a:solidFill>
            <a:srgbClr val="ffff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Быстрян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11"/>
          <p:cNvSpPr/>
          <p:nvPr/>
        </p:nvSpPr>
        <p:spPr>
          <a:xfrm>
            <a:off x="5075280" y="4727520"/>
            <a:ext cx="1366920" cy="520560"/>
          </a:xfrm>
          <a:prstGeom prst="rect">
            <a:avLst/>
          </a:prstGeom>
          <a:solidFill>
            <a:srgbClr val="ffff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Уса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Picture 12" descr="ручьевая форель"/>
          <p:cNvPicPr/>
          <p:nvPr/>
        </p:nvPicPr>
        <p:blipFill>
          <a:blip r:embed="rId7"/>
          <a:stretch/>
        </p:blipFill>
        <p:spPr>
          <a:xfrm>
            <a:off x="4859280" y="2347920"/>
            <a:ext cx="3168720" cy="2017800"/>
          </a:xfrm>
          <a:prstGeom prst="rect">
            <a:avLst/>
          </a:prstGeom>
          <a:ln w="25560">
            <a:solidFill>
              <a:srgbClr val="ff0000"/>
            </a:solidFill>
            <a:miter/>
          </a:ln>
        </p:spPr>
      </p:pic>
      <p:sp>
        <p:nvSpPr>
          <p:cNvPr id="176" name="Text Box 13"/>
          <p:cNvSpPr/>
          <p:nvPr/>
        </p:nvSpPr>
        <p:spPr>
          <a:xfrm>
            <a:off x="6732720" y="3933720"/>
            <a:ext cx="1726920" cy="520560"/>
          </a:xfrm>
          <a:prstGeom prst="rect">
            <a:avLst/>
          </a:prstGeom>
          <a:solidFill>
            <a:srgbClr val="ffff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Форел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Freeform 2"/>
          <p:cNvSpPr/>
          <p:nvPr/>
        </p:nvSpPr>
        <p:spPr>
          <a:xfrm>
            <a:off x="4859280" y="120600"/>
            <a:ext cx="4219560" cy="6651720"/>
          </a:xfrm>
          <a:custGeom>
            <a:avLst/>
            <a:gdLst>
              <a:gd name="textAreaLeft" fmla="*/ 0 w 4219560"/>
              <a:gd name="textAreaRight" fmla="*/ 4219920 w 4219560"/>
              <a:gd name="textAreaTop" fmla="*/ 0 h 6651720"/>
              <a:gd name="textAreaBottom" fmla="*/ 6652080 h 6651720"/>
            </a:gdLst>
            <a:ahLst/>
            <a:rect l="textAreaLeft" t="textAreaTop" r="textAreaRight" b="textAreaBottom"/>
            <a:pathLst>
              <a:path w="2484" h="4190">
                <a:moveTo>
                  <a:pt x="2112" y="238"/>
                </a:moveTo>
                <a:cubicBezTo>
                  <a:pt x="2102" y="198"/>
                  <a:pt x="2115" y="228"/>
                  <a:pt x="2083" y="203"/>
                </a:cubicBezTo>
                <a:cubicBezTo>
                  <a:pt x="2018" y="153"/>
                  <a:pt x="2019" y="154"/>
                  <a:pt x="1926" y="145"/>
                </a:cubicBezTo>
                <a:cubicBezTo>
                  <a:pt x="1780" y="131"/>
                  <a:pt x="1636" y="103"/>
                  <a:pt x="1489" y="93"/>
                </a:cubicBezTo>
                <a:cubicBezTo>
                  <a:pt x="1406" y="74"/>
                  <a:pt x="1323" y="73"/>
                  <a:pt x="1239" y="64"/>
                </a:cubicBezTo>
                <a:cubicBezTo>
                  <a:pt x="1163" y="42"/>
                  <a:pt x="1084" y="43"/>
                  <a:pt x="1006" y="29"/>
                </a:cubicBezTo>
                <a:cubicBezTo>
                  <a:pt x="918" y="13"/>
                  <a:pt x="846" y="4"/>
                  <a:pt x="756" y="0"/>
                </a:cubicBezTo>
                <a:cubicBezTo>
                  <a:pt x="722" y="2"/>
                  <a:pt x="651" y="4"/>
                  <a:pt x="611" y="11"/>
                </a:cubicBezTo>
                <a:cubicBezTo>
                  <a:pt x="569" y="19"/>
                  <a:pt x="531" y="34"/>
                  <a:pt x="489" y="40"/>
                </a:cubicBezTo>
                <a:cubicBezTo>
                  <a:pt x="438" y="55"/>
                  <a:pt x="387" y="66"/>
                  <a:pt x="337" y="81"/>
                </a:cubicBezTo>
                <a:cubicBezTo>
                  <a:pt x="325" y="85"/>
                  <a:pt x="313" y="88"/>
                  <a:pt x="302" y="93"/>
                </a:cubicBezTo>
                <a:cubicBezTo>
                  <a:pt x="292" y="98"/>
                  <a:pt x="283" y="106"/>
                  <a:pt x="273" y="110"/>
                </a:cubicBezTo>
                <a:cubicBezTo>
                  <a:pt x="245" y="121"/>
                  <a:pt x="216" y="124"/>
                  <a:pt x="186" y="128"/>
                </a:cubicBezTo>
                <a:cubicBezTo>
                  <a:pt x="165" y="134"/>
                  <a:pt x="143" y="138"/>
                  <a:pt x="122" y="145"/>
                </a:cubicBezTo>
                <a:cubicBezTo>
                  <a:pt x="103" y="158"/>
                  <a:pt x="84" y="167"/>
                  <a:pt x="70" y="186"/>
                </a:cubicBezTo>
                <a:cubicBezTo>
                  <a:pt x="61" y="197"/>
                  <a:pt x="54" y="209"/>
                  <a:pt x="46" y="221"/>
                </a:cubicBezTo>
                <a:cubicBezTo>
                  <a:pt x="42" y="227"/>
                  <a:pt x="35" y="238"/>
                  <a:pt x="35" y="238"/>
                </a:cubicBezTo>
                <a:cubicBezTo>
                  <a:pt x="28" y="273"/>
                  <a:pt x="16" y="307"/>
                  <a:pt x="12" y="343"/>
                </a:cubicBezTo>
                <a:cubicBezTo>
                  <a:pt x="7" y="382"/>
                  <a:pt x="0" y="459"/>
                  <a:pt x="0" y="459"/>
                </a:cubicBezTo>
                <a:cubicBezTo>
                  <a:pt x="7" y="500"/>
                  <a:pt x="8" y="541"/>
                  <a:pt x="17" y="581"/>
                </a:cubicBezTo>
                <a:cubicBezTo>
                  <a:pt x="21" y="601"/>
                  <a:pt x="29" y="640"/>
                  <a:pt x="29" y="640"/>
                </a:cubicBezTo>
                <a:cubicBezTo>
                  <a:pt x="37" y="732"/>
                  <a:pt x="47" y="837"/>
                  <a:pt x="76" y="925"/>
                </a:cubicBezTo>
                <a:cubicBezTo>
                  <a:pt x="81" y="969"/>
                  <a:pt x="89" y="1017"/>
                  <a:pt x="105" y="1059"/>
                </a:cubicBezTo>
                <a:cubicBezTo>
                  <a:pt x="112" y="1078"/>
                  <a:pt x="128" y="1117"/>
                  <a:pt x="128" y="1117"/>
                </a:cubicBezTo>
                <a:cubicBezTo>
                  <a:pt x="140" y="1190"/>
                  <a:pt x="164" y="1254"/>
                  <a:pt x="198" y="1320"/>
                </a:cubicBezTo>
                <a:cubicBezTo>
                  <a:pt x="205" y="1349"/>
                  <a:pt x="233" y="1402"/>
                  <a:pt x="233" y="1402"/>
                </a:cubicBezTo>
                <a:cubicBezTo>
                  <a:pt x="240" y="1433"/>
                  <a:pt x="259" y="1455"/>
                  <a:pt x="273" y="1483"/>
                </a:cubicBezTo>
                <a:cubicBezTo>
                  <a:pt x="287" y="1512"/>
                  <a:pt x="296" y="1544"/>
                  <a:pt x="314" y="1571"/>
                </a:cubicBezTo>
                <a:cubicBezTo>
                  <a:pt x="325" y="1614"/>
                  <a:pt x="341" y="1648"/>
                  <a:pt x="361" y="1687"/>
                </a:cubicBezTo>
                <a:cubicBezTo>
                  <a:pt x="367" y="1712"/>
                  <a:pt x="378" y="1728"/>
                  <a:pt x="390" y="1751"/>
                </a:cubicBezTo>
                <a:cubicBezTo>
                  <a:pt x="395" y="1783"/>
                  <a:pt x="401" y="1802"/>
                  <a:pt x="413" y="1832"/>
                </a:cubicBezTo>
                <a:cubicBezTo>
                  <a:pt x="427" y="1930"/>
                  <a:pt x="446" y="2024"/>
                  <a:pt x="454" y="2123"/>
                </a:cubicBezTo>
                <a:cubicBezTo>
                  <a:pt x="460" y="2371"/>
                  <a:pt x="464" y="2375"/>
                  <a:pt x="454" y="2624"/>
                </a:cubicBezTo>
                <a:cubicBezTo>
                  <a:pt x="449" y="2756"/>
                  <a:pt x="417" y="2887"/>
                  <a:pt x="407" y="3019"/>
                </a:cubicBezTo>
                <a:cubicBezTo>
                  <a:pt x="408" y="3052"/>
                  <a:pt x="392" y="3288"/>
                  <a:pt x="425" y="3386"/>
                </a:cubicBezTo>
                <a:cubicBezTo>
                  <a:pt x="433" y="3462"/>
                  <a:pt x="445" y="3582"/>
                  <a:pt x="489" y="3648"/>
                </a:cubicBezTo>
                <a:cubicBezTo>
                  <a:pt x="512" y="3726"/>
                  <a:pt x="566" y="3800"/>
                  <a:pt x="622" y="3857"/>
                </a:cubicBezTo>
                <a:cubicBezTo>
                  <a:pt x="632" y="3867"/>
                  <a:pt x="638" y="3880"/>
                  <a:pt x="646" y="3892"/>
                </a:cubicBezTo>
                <a:cubicBezTo>
                  <a:pt x="658" y="3910"/>
                  <a:pt x="711" y="3937"/>
                  <a:pt x="733" y="3944"/>
                </a:cubicBezTo>
                <a:cubicBezTo>
                  <a:pt x="757" y="3961"/>
                  <a:pt x="774" y="3968"/>
                  <a:pt x="803" y="3973"/>
                </a:cubicBezTo>
                <a:cubicBezTo>
                  <a:pt x="831" y="3983"/>
                  <a:pt x="855" y="3996"/>
                  <a:pt x="884" y="4003"/>
                </a:cubicBezTo>
                <a:cubicBezTo>
                  <a:pt x="928" y="4030"/>
                  <a:pt x="986" y="4030"/>
                  <a:pt x="1036" y="4043"/>
                </a:cubicBezTo>
                <a:cubicBezTo>
                  <a:pt x="1078" y="4065"/>
                  <a:pt x="1122" y="4067"/>
                  <a:pt x="1169" y="4072"/>
                </a:cubicBezTo>
                <a:cubicBezTo>
                  <a:pt x="1219" y="4089"/>
                  <a:pt x="1275" y="4092"/>
                  <a:pt x="1326" y="4101"/>
                </a:cubicBezTo>
                <a:cubicBezTo>
                  <a:pt x="1386" y="4111"/>
                  <a:pt x="1446" y="4129"/>
                  <a:pt x="1507" y="4136"/>
                </a:cubicBezTo>
                <a:cubicBezTo>
                  <a:pt x="1713" y="4190"/>
                  <a:pt x="1873" y="4104"/>
                  <a:pt x="2065" y="4084"/>
                </a:cubicBezTo>
                <a:cubicBezTo>
                  <a:pt x="2109" y="4069"/>
                  <a:pt x="2147" y="4052"/>
                  <a:pt x="2188" y="4032"/>
                </a:cubicBezTo>
                <a:cubicBezTo>
                  <a:pt x="2212" y="4020"/>
                  <a:pt x="2246" y="4007"/>
                  <a:pt x="2263" y="3985"/>
                </a:cubicBezTo>
                <a:cubicBezTo>
                  <a:pt x="2302" y="3933"/>
                  <a:pt x="2282" y="3950"/>
                  <a:pt x="2316" y="3927"/>
                </a:cubicBezTo>
                <a:cubicBezTo>
                  <a:pt x="2336" y="3899"/>
                  <a:pt x="2363" y="3884"/>
                  <a:pt x="2385" y="3857"/>
                </a:cubicBezTo>
                <a:cubicBezTo>
                  <a:pt x="2405" y="3833"/>
                  <a:pt x="2414" y="3802"/>
                  <a:pt x="2432" y="3776"/>
                </a:cubicBezTo>
                <a:cubicBezTo>
                  <a:pt x="2438" y="3754"/>
                  <a:pt x="2448" y="3738"/>
                  <a:pt x="2455" y="3717"/>
                </a:cubicBezTo>
                <a:cubicBezTo>
                  <a:pt x="2464" y="3651"/>
                  <a:pt x="2458" y="3686"/>
                  <a:pt x="2473" y="3613"/>
                </a:cubicBezTo>
                <a:cubicBezTo>
                  <a:pt x="2480" y="3580"/>
                  <a:pt x="2484" y="3514"/>
                  <a:pt x="2484" y="3514"/>
                </a:cubicBezTo>
                <a:cubicBezTo>
                  <a:pt x="2469" y="3237"/>
                  <a:pt x="2429" y="2963"/>
                  <a:pt x="2397" y="2688"/>
                </a:cubicBezTo>
                <a:cubicBezTo>
                  <a:pt x="2406" y="2468"/>
                  <a:pt x="2432" y="2250"/>
                  <a:pt x="2449" y="2030"/>
                </a:cubicBezTo>
                <a:cubicBezTo>
                  <a:pt x="2453" y="1978"/>
                  <a:pt x="2457" y="1925"/>
                  <a:pt x="2461" y="1873"/>
                </a:cubicBezTo>
                <a:cubicBezTo>
                  <a:pt x="2465" y="1828"/>
                  <a:pt x="2473" y="1739"/>
                  <a:pt x="2473" y="1739"/>
                </a:cubicBezTo>
                <a:cubicBezTo>
                  <a:pt x="2468" y="1493"/>
                  <a:pt x="2458" y="1254"/>
                  <a:pt x="2414" y="1012"/>
                </a:cubicBezTo>
                <a:cubicBezTo>
                  <a:pt x="2400" y="935"/>
                  <a:pt x="2395" y="856"/>
                  <a:pt x="2380" y="779"/>
                </a:cubicBezTo>
                <a:cubicBezTo>
                  <a:pt x="2371" y="731"/>
                  <a:pt x="2378" y="750"/>
                  <a:pt x="2368" y="709"/>
                </a:cubicBezTo>
                <a:cubicBezTo>
                  <a:pt x="2364" y="694"/>
                  <a:pt x="2356" y="663"/>
                  <a:pt x="2356" y="663"/>
                </a:cubicBezTo>
                <a:cubicBezTo>
                  <a:pt x="2348" y="597"/>
                  <a:pt x="2335" y="535"/>
                  <a:pt x="2316" y="471"/>
                </a:cubicBezTo>
                <a:cubicBezTo>
                  <a:pt x="2306" y="401"/>
                  <a:pt x="2272" y="336"/>
                  <a:pt x="2211" y="296"/>
                </a:cubicBezTo>
                <a:cubicBezTo>
                  <a:pt x="2179" y="275"/>
                  <a:pt x="2139" y="265"/>
                  <a:pt x="2112" y="238"/>
                </a:cubicBez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Freeform 3"/>
          <p:cNvSpPr/>
          <p:nvPr/>
        </p:nvSpPr>
        <p:spPr>
          <a:xfrm>
            <a:off x="34920" y="176040"/>
            <a:ext cx="5487840" cy="6548760"/>
          </a:xfrm>
          <a:custGeom>
            <a:avLst/>
            <a:gdLst>
              <a:gd name="textAreaLeft" fmla="*/ 0 w 5487840"/>
              <a:gd name="textAreaRight" fmla="*/ 5488200 w 5487840"/>
              <a:gd name="textAreaTop" fmla="*/ 0 h 6548760"/>
              <a:gd name="textAreaBottom" fmla="*/ 6549120 h 6548760"/>
            </a:gdLst>
            <a:ahLst/>
            <a:rect l="textAreaLeft" t="textAreaTop" r="textAreaRight" b="textAreaBottom"/>
            <a:pathLst>
              <a:path w="3357" h="4125">
                <a:moveTo>
                  <a:pt x="93" y="779"/>
                </a:moveTo>
                <a:cubicBezTo>
                  <a:pt x="78" y="694"/>
                  <a:pt x="98" y="598"/>
                  <a:pt x="111" y="512"/>
                </a:cubicBezTo>
                <a:cubicBezTo>
                  <a:pt x="114" y="494"/>
                  <a:pt x="111" y="473"/>
                  <a:pt x="122" y="459"/>
                </a:cubicBezTo>
                <a:cubicBezTo>
                  <a:pt x="148" y="426"/>
                  <a:pt x="170" y="390"/>
                  <a:pt x="192" y="354"/>
                </a:cubicBezTo>
                <a:cubicBezTo>
                  <a:pt x="201" y="320"/>
                  <a:pt x="225" y="309"/>
                  <a:pt x="256" y="296"/>
                </a:cubicBezTo>
                <a:cubicBezTo>
                  <a:pt x="290" y="282"/>
                  <a:pt x="314" y="264"/>
                  <a:pt x="349" y="256"/>
                </a:cubicBezTo>
                <a:cubicBezTo>
                  <a:pt x="367" y="244"/>
                  <a:pt x="391" y="239"/>
                  <a:pt x="407" y="226"/>
                </a:cubicBezTo>
                <a:cubicBezTo>
                  <a:pt x="422" y="214"/>
                  <a:pt x="434" y="199"/>
                  <a:pt x="448" y="186"/>
                </a:cubicBezTo>
                <a:cubicBezTo>
                  <a:pt x="484" y="151"/>
                  <a:pt x="541" y="134"/>
                  <a:pt x="588" y="122"/>
                </a:cubicBezTo>
                <a:cubicBezTo>
                  <a:pt x="610" y="107"/>
                  <a:pt x="633" y="102"/>
                  <a:pt x="658" y="93"/>
                </a:cubicBezTo>
                <a:cubicBezTo>
                  <a:pt x="707" y="55"/>
                  <a:pt x="652" y="92"/>
                  <a:pt x="716" y="69"/>
                </a:cubicBezTo>
                <a:cubicBezTo>
                  <a:pt x="727" y="65"/>
                  <a:pt x="735" y="56"/>
                  <a:pt x="745" y="52"/>
                </a:cubicBezTo>
                <a:cubicBezTo>
                  <a:pt x="834" y="18"/>
                  <a:pt x="938" y="8"/>
                  <a:pt x="1030" y="0"/>
                </a:cubicBezTo>
                <a:cubicBezTo>
                  <a:pt x="1104" y="4"/>
                  <a:pt x="1177" y="7"/>
                  <a:pt x="1251" y="11"/>
                </a:cubicBezTo>
                <a:cubicBezTo>
                  <a:pt x="1315" y="15"/>
                  <a:pt x="1443" y="23"/>
                  <a:pt x="1443" y="23"/>
                </a:cubicBezTo>
                <a:cubicBezTo>
                  <a:pt x="1540" y="39"/>
                  <a:pt x="1637" y="49"/>
                  <a:pt x="1734" y="58"/>
                </a:cubicBezTo>
                <a:cubicBezTo>
                  <a:pt x="1836" y="85"/>
                  <a:pt x="1945" y="92"/>
                  <a:pt x="2048" y="116"/>
                </a:cubicBezTo>
                <a:cubicBezTo>
                  <a:pt x="2106" y="129"/>
                  <a:pt x="2023" y="115"/>
                  <a:pt x="2124" y="128"/>
                </a:cubicBezTo>
                <a:cubicBezTo>
                  <a:pt x="2149" y="131"/>
                  <a:pt x="2199" y="139"/>
                  <a:pt x="2199" y="139"/>
                </a:cubicBezTo>
                <a:cubicBezTo>
                  <a:pt x="2225" y="148"/>
                  <a:pt x="2218" y="146"/>
                  <a:pt x="2252" y="151"/>
                </a:cubicBezTo>
                <a:cubicBezTo>
                  <a:pt x="2281" y="155"/>
                  <a:pt x="2339" y="162"/>
                  <a:pt x="2339" y="162"/>
                </a:cubicBezTo>
                <a:cubicBezTo>
                  <a:pt x="2397" y="182"/>
                  <a:pt x="2459" y="197"/>
                  <a:pt x="2519" y="209"/>
                </a:cubicBezTo>
                <a:cubicBezTo>
                  <a:pt x="2553" y="226"/>
                  <a:pt x="2589" y="226"/>
                  <a:pt x="2624" y="238"/>
                </a:cubicBezTo>
                <a:cubicBezTo>
                  <a:pt x="2668" y="272"/>
                  <a:pt x="2699" y="313"/>
                  <a:pt x="2729" y="360"/>
                </a:cubicBezTo>
                <a:cubicBezTo>
                  <a:pt x="2746" y="387"/>
                  <a:pt x="2772" y="413"/>
                  <a:pt x="2787" y="442"/>
                </a:cubicBezTo>
                <a:cubicBezTo>
                  <a:pt x="2802" y="471"/>
                  <a:pt x="2808" y="497"/>
                  <a:pt x="2828" y="523"/>
                </a:cubicBezTo>
                <a:cubicBezTo>
                  <a:pt x="2842" y="560"/>
                  <a:pt x="2854" y="597"/>
                  <a:pt x="2869" y="634"/>
                </a:cubicBezTo>
                <a:cubicBezTo>
                  <a:pt x="2882" y="711"/>
                  <a:pt x="2880" y="782"/>
                  <a:pt x="2839" y="849"/>
                </a:cubicBezTo>
                <a:cubicBezTo>
                  <a:pt x="2826" y="892"/>
                  <a:pt x="2796" y="919"/>
                  <a:pt x="2770" y="954"/>
                </a:cubicBezTo>
                <a:cubicBezTo>
                  <a:pt x="2744" y="989"/>
                  <a:pt x="2719" y="1028"/>
                  <a:pt x="2694" y="1064"/>
                </a:cubicBezTo>
                <a:cubicBezTo>
                  <a:pt x="2610" y="1182"/>
                  <a:pt x="2511" y="1293"/>
                  <a:pt x="2403" y="1390"/>
                </a:cubicBezTo>
                <a:cubicBezTo>
                  <a:pt x="2343" y="1444"/>
                  <a:pt x="2271" y="1523"/>
                  <a:pt x="2199" y="1559"/>
                </a:cubicBezTo>
                <a:cubicBezTo>
                  <a:pt x="2193" y="1567"/>
                  <a:pt x="2189" y="1575"/>
                  <a:pt x="2182" y="1582"/>
                </a:cubicBezTo>
                <a:cubicBezTo>
                  <a:pt x="2175" y="1589"/>
                  <a:pt x="2165" y="1593"/>
                  <a:pt x="2159" y="1600"/>
                </a:cubicBezTo>
                <a:cubicBezTo>
                  <a:pt x="2146" y="1616"/>
                  <a:pt x="2131" y="1655"/>
                  <a:pt x="2124" y="1675"/>
                </a:cubicBezTo>
                <a:cubicBezTo>
                  <a:pt x="2127" y="1698"/>
                  <a:pt x="2121" y="1726"/>
                  <a:pt x="2135" y="1745"/>
                </a:cubicBezTo>
                <a:cubicBezTo>
                  <a:pt x="2171" y="1794"/>
                  <a:pt x="2237" y="1818"/>
                  <a:pt x="2293" y="1832"/>
                </a:cubicBezTo>
                <a:cubicBezTo>
                  <a:pt x="2346" y="1869"/>
                  <a:pt x="2449" y="1869"/>
                  <a:pt x="2508" y="1873"/>
                </a:cubicBezTo>
                <a:cubicBezTo>
                  <a:pt x="2637" y="1895"/>
                  <a:pt x="2768" y="1916"/>
                  <a:pt x="2898" y="1925"/>
                </a:cubicBezTo>
                <a:cubicBezTo>
                  <a:pt x="2970" y="1944"/>
                  <a:pt x="3040" y="1969"/>
                  <a:pt x="3113" y="1984"/>
                </a:cubicBezTo>
                <a:cubicBezTo>
                  <a:pt x="3138" y="1996"/>
                  <a:pt x="3163" y="2011"/>
                  <a:pt x="3189" y="2018"/>
                </a:cubicBezTo>
                <a:cubicBezTo>
                  <a:pt x="3208" y="2031"/>
                  <a:pt x="3216" y="2047"/>
                  <a:pt x="3235" y="2059"/>
                </a:cubicBezTo>
                <a:cubicBezTo>
                  <a:pt x="3242" y="2087"/>
                  <a:pt x="3247" y="2100"/>
                  <a:pt x="3264" y="2123"/>
                </a:cubicBezTo>
                <a:cubicBezTo>
                  <a:pt x="3276" y="2158"/>
                  <a:pt x="3294" y="2189"/>
                  <a:pt x="3311" y="2222"/>
                </a:cubicBezTo>
                <a:cubicBezTo>
                  <a:pt x="3326" y="2252"/>
                  <a:pt x="3329" y="2289"/>
                  <a:pt x="3340" y="2321"/>
                </a:cubicBezTo>
                <a:cubicBezTo>
                  <a:pt x="3345" y="2364"/>
                  <a:pt x="3348" y="2407"/>
                  <a:pt x="3357" y="2449"/>
                </a:cubicBezTo>
                <a:cubicBezTo>
                  <a:pt x="3351" y="2528"/>
                  <a:pt x="3353" y="2611"/>
                  <a:pt x="3334" y="2688"/>
                </a:cubicBezTo>
                <a:cubicBezTo>
                  <a:pt x="3328" y="2777"/>
                  <a:pt x="3329" y="2875"/>
                  <a:pt x="3299" y="2961"/>
                </a:cubicBezTo>
                <a:cubicBezTo>
                  <a:pt x="3293" y="2999"/>
                  <a:pt x="3291" y="3049"/>
                  <a:pt x="3276" y="3083"/>
                </a:cubicBezTo>
                <a:cubicBezTo>
                  <a:pt x="3269" y="3100"/>
                  <a:pt x="3255" y="3114"/>
                  <a:pt x="3247" y="3130"/>
                </a:cubicBezTo>
                <a:cubicBezTo>
                  <a:pt x="3205" y="3215"/>
                  <a:pt x="3147" y="3304"/>
                  <a:pt x="3066" y="3357"/>
                </a:cubicBezTo>
                <a:cubicBezTo>
                  <a:pt x="3046" y="3370"/>
                  <a:pt x="3023" y="3375"/>
                  <a:pt x="3002" y="3386"/>
                </a:cubicBezTo>
                <a:cubicBezTo>
                  <a:pt x="2888" y="3444"/>
                  <a:pt x="2788" y="3472"/>
                  <a:pt x="2659" y="3490"/>
                </a:cubicBezTo>
                <a:cubicBezTo>
                  <a:pt x="2628" y="3503"/>
                  <a:pt x="2598" y="3504"/>
                  <a:pt x="2566" y="3514"/>
                </a:cubicBezTo>
                <a:cubicBezTo>
                  <a:pt x="2498" y="3535"/>
                  <a:pt x="2433" y="3554"/>
                  <a:pt x="2362" y="3566"/>
                </a:cubicBezTo>
                <a:cubicBezTo>
                  <a:pt x="2301" y="3593"/>
                  <a:pt x="2234" y="3604"/>
                  <a:pt x="2170" y="3624"/>
                </a:cubicBezTo>
                <a:cubicBezTo>
                  <a:pt x="2119" y="3664"/>
                  <a:pt x="2056" y="3682"/>
                  <a:pt x="2002" y="3717"/>
                </a:cubicBezTo>
                <a:cubicBezTo>
                  <a:pt x="1987" y="3740"/>
                  <a:pt x="1951" y="3778"/>
                  <a:pt x="1926" y="3787"/>
                </a:cubicBezTo>
                <a:cubicBezTo>
                  <a:pt x="1893" y="3843"/>
                  <a:pt x="1831" y="3885"/>
                  <a:pt x="1781" y="3927"/>
                </a:cubicBezTo>
                <a:cubicBezTo>
                  <a:pt x="1734" y="3967"/>
                  <a:pt x="1702" y="4019"/>
                  <a:pt x="1641" y="4037"/>
                </a:cubicBezTo>
                <a:cubicBezTo>
                  <a:pt x="1594" y="4068"/>
                  <a:pt x="1552" y="4093"/>
                  <a:pt x="1495" y="4101"/>
                </a:cubicBezTo>
                <a:cubicBezTo>
                  <a:pt x="1447" y="4118"/>
                  <a:pt x="1400" y="4121"/>
                  <a:pt x="1350" y="4125"/>
                </a:cubicBezTo>
                <a:cubicBezTo>
                  <a:pt x="1233" y="4120"/>
                  <a:pt x="1117" y="4113"/>
                  <a:pt x="1001" y="4101"/>
                </a:cubicBezTo>
                <a:cubicBezTo>
                  <a:pt x="935" y="4087"/>
                  <a:pt x="863" y="4088"/>
                  <a:pt x="797" y="4084"/>
                </a:cubicBezTo>
                <a:cubicBezTo>
                  <a:pt x="712" y="4073"/>
                  <a:pt x="627" y="4070"/>
                  <a:pt x="541" y="4066"/>
                </a:cubicBezTo>
                <a:cubicBezTo>
                  <a:pt x="397" y="4050"/>
                  <a:pt x="244" y="4038"/>
                  <a:pt x="105" y="3997"/>
                </a:cubicBezTo>
                <a:cubicBezTo>
                  <a:pt x="93" y="3985"/>
                  <a:pt x="82" y="3974"/>
                  <a:pt x="70" y="3962"/>
                </a:cubicBezTo>
                <a:cubicBezTo>
                  <a:pt x="62" y="3954"/>
                  <a:pt x="47" y="3938"/>
                  <a:pt x="47" y="3938"/>
                </a:cubicBezTo>
                <a:cubicBezTo>
                  <a:pt x="45" y="3932"/>
                  <a:pt x="44" y="3926"/>
                  <a:pt x="41" y="3921"/>
                </a:cubicBezTo>
                <a:cubicBezTo>
                  <a:pt x="36" y="3914"/>
                  <a:pt x="27" y="3911"/>
                  <a:pt x="23" y="3904"/>
                </a:cubicBezTo>
                <a:cubicBezTo>
                  <a:pt x="15" y="3889"/>
                  <a:pt x="12" y="3873"/>
                  <a:pt x="6" y="3857"/>
                </a:cubicBezTo>
                <a:cubicBezTo>
                  <a:pt x="4" y="3851"/>
                  <a:pt x="0" y="3840"/>
                  <a:pt x="0" y="3840"/>
                </a:cubicBezTo>
                <a:cubicBezTo>
                  <a:pt x="4" y="3766"/>
                  <a:pt x="3" y="3674"/>
                  <a:pt x="29" y="3601"/>
                </a:cubicBezTo>
                <a:cubicBezTo>
                  <a:pt x="47" y="3549"/>
                  <a:pt x="71" y="3499"/>
                  <a:pt x="82" y="3444"/>
                </a:cubicBezTo>
                <a:cubicBezTo>
                  <a:pt x="94" y="3314"/>
                  <a:pt x="82" y="3365"/>
                  <a:pt x="105" y="3287"/>
                </a:cubicBezTo>
                <a:cubicBezTo>
                  <a:pt x="117" y="3171"/>
                  <a:pt x="142" y="3060"/>
                  <a:pt x="175" y="2949"/>
                </a:cubicBezTo>
                <a:cubicBezTo>
                  <a:pt x="188" y="2903"/>
                  <a:pt x="194" y="2855"/>
                  <a:pt x="210" y="2810"/>
                </a:cubicBezTo>
                <a:cubicBezTo>
                  <a:pt x="226" y="2715"/>
                  <a:pt x="220" y="2768"/>
                  <a:pt x="227" y="2653"/>
                </a:cubicBezTo>
                <a:cubicBezTo>
                  <a:pt x="219" y="2535"/>
                  <a:pt x="214" y="2368"/>
                  <a:pt x="175" y="2251"/>
                </a:cubicBezTo>
                <a:cubicBezTo>
                  <a:pt x="173" y="2236"/>
                  <a:pt x="172" y="2220"/>
                  <a:pt x="169" y="2205"/>
                </a:cubicBezTo>
                <a:cubicBezTo>
                  <a:pt x="166" y="2193"/>
                  <a:pt x="160" y="2182"/>
                  <a:pt x="157" y="2170"/>
                </a:cubicBezTo>
                <a:cubicBezTo>
                  <a:pt x="142" y="2097"/>
                  <a:pt x="139" y="2022"/>
                  <a:pt x="128" y="1949"/>
                </a:cubicBezTo>
                <a:cubicBezTo>
                  <a:pt x="110" y="1827"/>
                  <a:pt x="90" y="1706"/>
                  <a:pt x="82" y="1582"/>
                </a:cubicBezTo>
                <a:cubicBezTo>
                  <a:pt x="84" y="1479"/>
                  <a:pt x="83" y="1377"/>
                  <a:pt x="87" y="1274"/>
                </a:cubicBezTo>
                <a:cubicBezTo>
                  <a:pt x="90" y="1200"/>
                  <a:pt x="112" y="1126"/>
                  <a:pt x="122" y="1053"/>
                </a:cubicBezTo>
                <a:cubicBezTo>
                  <a:pt x="119" y="988"/>
                  <a:pt x="119" y="938"/>
                  <a:pt x="99" y="878"/>
                </a:cubicBezTo>
                <a:cubicBezTo>
                  <a:pt x="97" y="857"/>
                  <a:pt x="82" y="802"/>
                  <a:pt x="93" y="779"/>
                </a:cubicBez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7632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Bookman Old Style"/>
              </a:rPr>
              <a:t>ПТИЦЫ       РЫБЫ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Picture 5" descr="cic019"/>
          <p:cNvPicPr/>
          <p:nvPr/>
        </p:nvPicPr>
        <p:blipFill>
          <a:blip r:embed="rId1"/>
          <a:srcRect l="0" t="0" r="64" b="97"/>
          <a:stretch/>
        </p:blipFill>
        <p:spPr>
          <a:xfrm>
            <a:off x="684360" y="4149720"/>
            <a:ext cx="1614240" cy="19242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6" descr="Picture1"/>
          <p:cNvPicPr/>
          <p:nvPr/>
        </p:nvPicPr>
        <p:blipFill>
          <a:blip r:embed="rId2"/>
          <a:srcRect l="0" t="0" r="-70" b="15"/>
          <a:stretch/>
        </p:blipFill>
        <p:spPr>
          <a:xfrm>
            <a:off x="2987640" y="3429000"/>
            <a:ext cx="2160720" cy="146988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7" descr="lebed"/>
          <p:cNvPicPr/>
          <p:nvPr/>
        </p:nvPicPr>
        <p:blipFill>
          <a:blip r:embed="rId3"/>
          <a:srcRect l="0" t="0" r="-43" b="-31"/>
          <a:stretch/>
        </p:blipFill>
        <p:spPr>
          <a:xfrm>
            <a:off x="468360" y="1700280"/>
            <a:ext cx="2305080" cy="12571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8" descr="fish1"/>
          <p:cNvPicPr/>
          <p:nvPr/>
        </p:nvPicPr>
        <p:blipFill>
          <a:blip r:embed="rId4"/>
          <a:stretch/>
        </p:blipFill>
        <p:spPr>
          <a:xfrm>
            <a:off x="5867280" y="4797360"/>
            <a:ext cx="2952720" cy="1495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9" descr="fish"/>
          <p:cNvPicPr/>
          <p:nvPr/>
        </p:nvPicPr>
        <p:blipFill>
          <a:blip r:embed="rId5"/>
          <a:stretch/>
        </p:blipFill>
        <p:spPr>
          <a:xfrm>
            <a:off x="5867280" y="1557360"/>
            <a:ext cx="2735280" cy="155268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0" descr="6_leschRus[1]"/>
          <p:cNvPicPr/>
          <p:nvPr/>
        </p:nvPicPr>
        <p:blipFill>
          <a:blip r:embed="rId6"/>
          <a:stretch/>
        </p:blipFill>
        <p:spPr>
          <a:xfrm>
            <a:off x="5940360" y="3500280"/>
            <a:ext cx="2519280" cy="1389240"/>
          </a:xfrm>
          <a:prstGeom prst="rect">
            <a:avLst/>
          </a:prstGeom>
          <a:ln w="0">
            <a:noFill/>
          </a:ln>
        </p:spPr>
      </p:pic>
      <p:sp>
        <p:nvSpPr>
          <p:cNvPr id="186" name="Freeform 11"/>
          <p:cNvSpPr/>
          <p:nvPr/>
        </p:nvSpPr>
        <p:spPr>
          <a:xfrm>
            <a:off x="176040" y="374760"/>
            <a:ext cx="4924440" cy="6323040"/>
          </a:xfrm>
          <a:custGeom>
            <a:avLst/>
            <a:gdLst>
              <a:gd name="textAreaLeft" fmla="*/ 0 w 4924440"/>
              <a:gd name="textAreaRight" fmla="*/ 4924800 w 4924440"/>
              <a:gd name="textAreaTop" fmla="*/ 0 h 6323040"/>
              <a:gd name="textAreaBottom" fmla="*/ 6323400 h 6323040"/>
            </a:gdLst>
            <a:ahLst/>
            <a:rect l="textAreaLeft" t="textAreaTop" r="textAreaRight" b="textAreaBottom"/>
            <a:pathLst>
              <a:path w="3102" h="3983">
                <a:moveTo>
                  <a:pt x="76" y="215"/>
                </a:moveTo>
                <a:cubicBezTo>
                  <a:pt x="129" y="176"/>
                  <a:pt x="191" y="160"/>
                  <a:pt x="250" y="132"/>
                </a:cubicBezTo>
                <a:cubicBezTo>
                  <a:pt x="267" y="124"/>
                  <a:pt x="281" y="111"/>
                  <a:pt x="298" y="104"/>
                </a:cubicBezTo>
                <a:cubicBezTo>
                  <a:pt x="311" y="99"/>
                  <a:pt x="326" y="100"/>
                  <a:pt x="340" y="97"/>
                </a:cubicBezTo>
                <a:cubicBezTo>
                  <a:pt x="438" y="72"/>
                  <a:pt x="531" y="39"/>
                  <a:pt x="632" y="28"/>
                </a:cubicBezTo>
                <a:cubicBezTo>
                  <a:pt x="673" y="17"/>
                  <a:pt x="714" y="9"/>
                  <a:pt x="756" y="0"/>
                </a:cubicBezTo>
                <a:cubicBezTo>
                  <a:pt x="1288" y="5"/>
                  <a:pt x="1826" y="2"/>
                  <a:pt x="2353" y="90"/>
                </a:cubicBezTo>
                <a:cubicBezTo>
                  <a:pt x="2407" y="112"/>
                  <a:pt x="2468" y="118"/>
                  <a:pt x="2526" y="125"/>
                </a:cubicBezTo>
                <a:cubicBezTo>
                  <a:pt x="2576" y="142"/>
                  <a:pt x="2614" y="149"/>
                  <a:pt x="2658" y="180"/>
                </a:cubicBezTo>
                <a:cubicBezTo>
                  <a:pt x="2700" y="244"/>
                  <a:pt x="2750" y="302"/>
                  <a:pt x="2790" y="368"/>
                </a:cubicBezTo>
                <a:cubicBezTo>
                  <a:pt x="2798" y="402"/>
                  <a:pt x="2854" y="514"/>
                  <a:pt x="2880" y="548"/>
                </a:cubicBezTo>
                <a:cubicBezTo>
                  <a:pt x="2891" y="582"/>
                  <a:pt x="2902" y="616"/>
                  <a:pt x="2922" y="645"/>
                </a:cubicBezTo>
                <a:cubicBezTo>
                  <a:pt x="2931" y="714"/>
                  <a:pt x="2947" y="730"/>
                  <a:pt x="2963" y="791"/>
                </a:cubicBezTo>
                <a:cubicBezTo>
                  <a:pt x="2991" y="895"/>
                  <a:pt x="3004" y="1004"/>
                  <a:pt x="3026" y="1110"/>
                </a:cubicBezTo>
                <a:cubicBezTo>
                  <a:pt x="3050" y="1374"/>
                  <a:pt x="3080" y="1637"/>
                  <a:pt x="3102" y="1901"/>
                </a:cubicBezTo>
                <a:cubicBezTo>
                  <a:pt x="3096" y="2143"/>
                  <a:pt x="3074" y="2384"/>
                  <a:pt x="3033" y="2623"/>
                </a:cubicBezTo>
                <a:cubicBezTo>
                  <a:pt x="3019" y="2817"/>
                  <a:pt x="2952" y="3083"/>
                  <a:pt x="2811" y="3227"/>
                </a:cubicBezTo>
                <a:cubicBezTo>
                  <a:pt x="2800" y="3238"/>
                  <a:pt x="2774" y="3248"/>
                  <a:pt x="2762" y="3255"/>
                </a:cubicBezTo>
                <a:cubicBezTo>
                  <a:pt x="2711" y="3284"/>
                  <a:pt x="2777" y="3251"/>
                  <a:pt x="2713" y="3296"/>
                </a:cubicBezTo>
                <a:cubicBezTo>
                  <a:pt x="2684" y="3317"/>
                  <a:pt x="2640" y="3320"/>
                  <a:pt x="2609" y="3338"/>
                </a:cubicBezTo>
                <a:cubicBezTo>
                  <a:pt x="2573" y="3358"/>
                  <a:pt x="2568" y="3365"/>
                  <a:pt x="2526" y="3373"/>
                </a:cubicBezTo>
                <a:cubicBezTo>
                  <a:pt x="2496" y="3393"/>
                  <a:pt x="2462" y="3398"/>
                  <a:pt x="2429" y="3414"/>
                </a:cubicBezTo>
                <a:cubicBezTo>
                  <a:pt x="2389" y="3434"/>
                  <a:pt x="2427" y="3429"/>
                  <a:pt x="2366" y="3442"/>
                </a:cubicBezTo>
                <a:cubicBezTo>
                  <a:pt x="2346" y="3446"/>
                  <a:pt x="2329" y="3448"/>
                  <a:pt x="2311" y="3456"/>
                </a:cubicBezTo>
                <a:cubicBezTo>
                  <a:pt x="2263" y="3476"/>
                  <a:pt x="2213" y="3500"/>
                  <a:pt x="2165" y="3518"/>
                </a:cubicBezTo>
                <a:cubicBezTo>
                  <a:pt x="2097" y="3543"/>
                  <a:pt x="2159" y="3511"/>
                  <a:pt x="2110" y="3532"/>
                </a:cubicBezTo>
                <a:cubicBezTo>
                  <a:pt x="2056" y="3555"/>
                  <a:pt x="2007" y="3588"/>
                  <a:pt x="1950" y="3602"/>
                </a:cubicBezTo>
                <a:cubicBezTo>
                  <a:pt x="1936" y="3611"/>
                  <a:pt x="1924" y="3627"/>
                  <a:pt x="1908" y="3629"/>
                </a:cubicBezTo>
                <a:cubicBezTo>
                  <a:pt x="1868" y="3635"/>
                  <a:pt x="1827" y="3638"/>
                  <a:pt x="1790" y="3657"/>
                </a:cubicBezTo>
                <a:cubicBezTo>
                  <a:pt x="1760" y="3672"/>
                  <a:pt x="1721" y="3687"/>
                  <a:pt x="1693" y="3706"/>
                </a:cubicBezTo>
                <a:cubicBezTo>
                  <a:pt x="1654" y="3733"/>
                  <a:pt x="1618" y="3761"/>
                  <a:pt x="1575" y="3782"/>
                </a:cubicBezTo>
                <a:cubicBezTo>
                  <a:pt x="1529" y="3831"/>
                  <a:pt x="1431" y="3839"/>
                  <a:pt x="1367" y="3845"/>
                </a:cubicBezTo>
                <a:cubicBezTo>
                  <a:pt x="1310" y="3859"/>
                  <a:pt x="1252" y="3871"/>
                  <a:pt x="1194" y="3879"/>
                </a:cubicBezTo>
                <a:cubicBezTo>
                  <a:pt x="1165" y="3889"/>
                  <a:pt x="1148" y="3901"/>
                  <a:pt x="1117" y="3907"/>
                </a:cubicBezTo>
                <a:cubicBezTo>
                  <a:pt x="1077" y="3935"/>
                  <a:pt x="1119" y="3909"/>
                  <a:pt x="1069" y="3928"/>
                </a:cubicBezTo>
                <a:cubicBezTo>
                  <a:pt x="1045" y="3937"/>
                  <a:pt x="1022" y="3955"/>
                  <a:pt x="999" y="3963"/>
                </a:cubicBezTo>
                <a:cubicBezTo>
                  <a:pt x="966" y="3975"/>
                  <a:pt x="922" y="3977"/>
                  <a:pt x="888" y="3983"/>
                </a:cubicBezTo>
                <a:cubicBezTo>
                  <a:pt x="752" y="3978"/>
                  <a:pt x="627" y="3958"/>
                  <a:pt x="493" y="3949"/>
                </a:cubicBezTo>
                <a:cubicBezTo>
                  <a:pt x="410" y="3944"/>
                  <a:pt x="243" y="3935"/>
                  <a:pt x="243" y="3935"/>
                </a:cubicBezTo>
                <a:cubicBezTo>
                  <a:pt x="188" y="3928"/>
                  <a:pt x="129" y="3932"/>
                  <a:pt x="76" y="3914"/>
                </a:cubicBezTo>
                <a:cubicBezTo>
                  <a:pt x="62" y="3905"/>
                  <a:pt x="49" y="3895"/>
                  <a:pt x="35" y="3886"/>
                </a:cubicBezTo>
                <a:cubicBezTo>
                  <a:pt x="23" y="3878"/>
                  <a:pt x="21" y="3845"/>
                  <a:pt x="21" y="3845"/>
                </a:cubicBezTo>
                <a:cubicBezTo>
                  <a:pt x="12" y="3789"/>
                  <a:pt x="6" y="3734"/>
                  <a:pt x="0" y="3678"/>
                </a:cubicBezTo>
                <a:cubicBezTo>
                  <a:pt x="13" y="3530"/>
                  <a:pt x="26" y="3383"/>
                  <a:pt x="35" y="3234"/>
                </a:cubicBezTo>
                <a:cubicBezTo>
                  <a:pt x="38" y="3188"/>
                  <a:pt x="49" y="3095"/>
                  <a:pt x="49" y="3095"/>
                </a:cubicBezTo>
                <a:cubicBezTo>
                  <a:pt x="46" y="3040"/>
                  <a:pt x="35" y="2985"/>
                  <a:pt x="35" y="2929"/>
                </a:cubicBezTo>
                <a:cubicBezTo>
                  <a:pt x="35" y="2825"/>
                  <a:pt x="50" y="2732"/>
                  <a:pt x="62" y="2630"/>
                </a:cubicBezTo>
                <a:cubicBezTo>
                  <a:pt x="77" y="2503"/>
                  <a:pt x="91" y="2370"/>
                  <a:pt x="132" y="2248"/>
                </a:cubicBezTo>
                <a:cubicBezTo>
                  <a:pt x="143" y="2152"/>
                  <a:pt x="166" y="2058"/>
                  <a:pt x="187" y="1964"/>
                </a:cubicBezTo>
                <a:cubicBezTo>
                  <a:pt x="192" y="1941"/>
                  <a:pt x="197" y="1918"/>
                  <a:pt x="201" y="1895"/>
                </a:cubicBezTo>
                <a:cubicBezTo>
                  <a:pt x="206" y="1867"/>
                  <a:pt x="215" y="1811"/>
                  <a:pt x="215" y="1811"/>
                </a:cubicBezTo>
                <a:cubicBezTo>
                  <a:pt x="211" y="1676"/>
                  <a:pt x="205" y="1570"/>
                  <a:pt x="180" y="1443"/>
                </a:cubicBezTo>
                <a:cubicBezTo>
                  <a:pt x="175" y="1374"/>
                  <a:pt x="175" y="1303"/>
                  <a:pt x="160" y="1235"/>
                </a:cubicBezTo>
                <a:cubicBezTo>
                  <a:pt x="140" y="1144"/>
                  <a:pt x="116" y="1056"/>
                  <a:pt x="97" y="965"/>
                </a:cubicBezTo>
                <a:cubicBezTo>
                  <a:pt x="85" y="786"/>
                  <a:pt x="80" y="633"/>
                  <a:pt x="76" y="444"/>
                </a:cubicBezTo>
                <a:cubicBezTo>
                  <a:pt x="81" y="361"/>
                  <a:pt x="96" y="294"/>
                  <a:pt x="76" y="215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Freeform 12"/>
          <p:cNvSpPr/>
          <p:nvPr/>
        </p:nvSpPr>
        <p:spPr>
          <a:xfrm>
            <a:off x="95400" y="981000"/>
            <a:ext cx="4908240" cy="6012000"/>
          </a:xfrm>
          <a:custGeom>
            <a:avLst/>
            <a:gdLst>
              <a:gd name="textAreaLeft" fmla="*/ 0 w 4908240"/>
              <a:gd name="textAreaRight" fmla="*/ 4908600 w 4908240"/>
              <a:gd name="textAreaTop" fmla="*/ 0 h 6012000"/>
              <a:gd name="textAreaBottom" fmla="*/ 6012360 h 6012000"/>
            </a:gdLst>
            <a:ahLst/>
            <a:rect l="textAreaLeft" t="textAreaTop" r="textAreaRight" b="textAreaBottom"/>
            <a:pathLst>
              <a:path w="3092" h="3787">
                <a:moveTo>
                  <a:pt x="144" y="0"/>
                </a:moveTo>
                <a:cubicBezTo>
                  <a:pt x="1130" y="68"/>
                  <a:pt x="2117" y="136"/>
                  <a:pt x="2593" y="499"/>
                </a:cubicBezTo>
                <a:cubicBezTo>
                  <a:pt x="3069" y="862"/>
                  <a:pt x="3092" y="1822"/>
                  <a:pt x="3001" y="2177"/>
                </a:cubicBezTo>
                <a:cubicBezTo>
                  <a:pt x="2910" y="2532"/>
                  <a:pt x="2223" y="2442"/>
                  <a:pt x="2049" y="2631"/>
                </a:cubicBezTo>
                <a:cubicBezTo>
                  <a:pt x="1875" y="2820"/>
                  <a:pt x="2207" y="3137"/>
                  <a:pt x="1958" y="3311"/>
                </a:cubicBezTo>
                <a:cubicBezTo>
                  <a:pt x="1709" y="3485"/>
                  <a:pt x="847" y="3629"/>
                  <a:pt x="552" y="3674"/>
                </a:cubicBezTo>
                <a:cubicBezTo>
                  <a:pt x="257" y="3719"/>
                  <a:pt x="280" y="3787"/>
                  <a:pt x="189" y="3583"/>
                </a:cubicBezTo>
                <a:cubicBezTo>
                  <a:pt x="98" y="3379"/>
                  <a:pt x="0" y="2721"/>
                  <a:pt x="8" y="2449"/>
                </a:cubicBezTo>
                <a:cubicBezTo>
                  <a:pt x="16" y="2177"/>
                  <a:pt x="235" y="2267"/>
                  <a:pt x="235" y="1950"/>
                </a:cubicBezTo>
                <a:cubicBezTo>
                  <a:pt x="235" y="1633"/>
                  <a:pt x="16" y="869"/>
                  <a:pt x="8" y="544"/>
                </a:cubicBezTo>
                <a:cubicBezTo>
                  <a:pt x="0" y="219"/>
                  <a:pt x="94" y="109"/>
                  <a:pt x="189" y="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Freeform 13"/>
          <p:cNvSpPr/>
          <p:nvPr/>
        </p:nvSpPr>
        <p:spPr>
          <a:xfrm>
            <a:off x="222120" y="1533600"/>
            <a:ext cx="2900520" cy="1200240"/>
          </a:xfrm>
          <a:custGeom>
            <a:avLst/>
            <a:gdLst>
              <a:gd name="textAreaLeft" fmla="*/ 0 w 2900520"/>
              <a:gd name="textAreaRight" fmla="*/ 2900880 w 2900520"/>
              <a:gd name="textAreaTop" fmla="*/ 0 h 1200240"/>
              <a:gd name="textAreaBottom" fmla="*/ 1200600 h 1200240"/>
            </a:gdLst>
            <a:ahLst/>
            <a:rect l="textAreaLeft" t="textAreaTop" r="textAreaRight" b="textAreaBottom"/>
            <a:pathLst>
              <a:path w="1827" h="756">
                <a:moveTo>
                  <a:pt x="0" y="756"/>
                </a:moveTo>
                <a:cubicBezTo>
                  <a:pt x="9" y="696"/>
                  <a:pt x="13" y="636"/>
                  <a:pt x="17" y="576"/>
                </a:cubicBezTo>
                <a:cubicBezTo>
                  <a:pt x="10" y="482"/>
                  <a:pt x="18" y="394"/>
                  <a:pt x="35" y="302"/>
                </a:cubicBezTo>
                <a:cubicBezTo>
                  <a:pt x="41" y="269"/>
                  <a:pt x="45" y="219"/>
                  <a:pt x="64" y="192"/>
                </a:cubicBezTo>
                <a:cubicBezTo>
                  <a:pt x="77" y="146"/>
                  <a:pt x="57" y="209"/>
                  <a:pt x="87" y="151"/>
                </a:cubicBezTo>
                <a:cubicBezTo>
                  <a:pt x="100" y="126"/>
                  <a:pt x="91" y="114"/>
                  <a:pt x="122" y="105"/>
                </a:cubicBezTo>
                <a:cubicBezTo>
                  <a:pt x="143" y="83"/>
                  <a:pt x="164" y="67"/>
                  <a:pt x="192" y="58"/>
                </a:cubicBezTo>
                <a:cubicBezTo>
                  <a:pt x="255" y="14"/>
                  <a:pt x="341" y="12"/>
                  <a:pt x="413" y="0"/>
                </a:cubicBezTo>
                <a:cubicBezTo>
                  <a:pt x="771" y="7"/>
                  <a:pt x="1125" y="40"/>
                  <a:pt x="1483" y="46"/>
                </a:cubicBezTo>
                <a:cubicBezTo>
                  <a:pt x="1557" y="61"/>
                  <a:pt x="1631" y="54"/>
                  <a:pt x="1704" y="75"/>
                </a:cubicBezTo>
                <a:cubicBezTo>
                  <a:pt x="1735" y="84"/>
                  <a:pt x="1761" y="98"/>
                  <a:pt x="1792" y="105"/>
                </a:cubicBezTo>
                <a:cubicBezTo>
                  <a:pt x="1804" y="108"/>
                  <a:pt x="1827" y="116"/>
                  <a:pt x="1827" y="116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14"/>
          <p:cNvSpPr/>
          <p:nvPr/>
        </p:nvSpPr>
        <p:spPr>
          <a:xfrm>
            <a:off x="1476360" y="2924280"/>
            <a:ext cx="14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ЛЕБЕД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15"/>
          <p:cNvSpPr/>
          <p:nvPr/>
        </p:nvSpPr>
        <p:spPr>
          <a:xfrm>
            <a:off x="900000" y="6093000"/>
            <a:ext cx="14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ЦАПЛ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16"/>
          <p:cNvSpPr/>
          <p:nvPr/>
        </p:nvSpPr>
        <p:spPr>
          <a:xfrm>
            <a:off x="3780000" y="4941720"/>
            <a:ext cx="136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КРЯКВ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17"/>
          <p:cNvSpPr/>
          <p:nvPr/>
        </p:nvSpPr>
        <p:spPr>
          <a:xfrm>
            <a:off x="7667640" y="4581360"/>
            <a:ext cx="11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ЛЕ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18"/>
          <p:cNvSpPr/>
          <p:nvPr/>
        </p:nvSpPr>
        <p:spPr>
          <a:xfrm>
            <a:off x="7524720" y="306864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ОКУН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19"/>
          <p:cNvSpPr/>
          <p:nvPr/>
        </p:nvSpPr>
        <p:spPr>
          <a:xfrm>
            <a:off x="7667640" y="5950080"/>
            <a:ext cx="115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ЩУК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Нора полевой мыши"/>
          <p:cNvPicPr/>
          <p:nvPr/>
        </p:nvPicPr>
        <p:blipFill>
          <a:blip r:embed="rId1"/>
          <a:stretch/>
        </p:blipFill>
        <p:spPr>
          <a:xfrm>
            <a:off x="249120" y="1413000"/>
            <a:ext cx="2735280" cy="1784160"/>
          </a:xfrm>
          <a:prstGeom prst="rect">
            <a:avLst/>
          </a:prstGeom>
          <a:ln w="25560">
            <a:solidFill>
              <a:srgbClr val="ffff00"/>
            </a:solidFill>
            <a:miter/>
          </a:ln>
        </p:spPr>
      </p:pic>
      <p:pic>
        <p:nvPicPr>
          <p:cNvPr id="196" name="Picture 3" descr="Муравейник"/>
          <p:cNvPicPr/>
          <p:nvPr/>
        </p:nvPicPr>
        <p:blipFill>
          <a:blip r:embed="rId2"/>
          <a:stretch/>
        </p:blipFill>
        <p:spPr>
          <a:xfrm>
            <a:off x="6227640" y="1413000"/>
            <a:ext cx="2592360" cy="1795320"/>
          </a:xfrm>
          <a:prstGeom prst="rect">
            <a:avLst/>
          </a:prstGeom>
          <a:ln w="25560">
            <a:solidFill>
              <a:srgbClr val="ffff00"/>
            </a:solidFill>
            <a:miter/>
          </a:ln>
        </p:spPr>
      </p:pic>
      <p:pic>
        <p:nvPicPr>
          <p:cNvPr id="197" name="Picture 4" descr="Лисья нора"/>
          <p:cNvPicPr/>
          <p:nvPr/>
        </p:nvPicPr>
        <p:blipFill>
          <a:blip r:embed="rId3"/>
          <a:stretch/>
        </p:blipFill>
        <p:spPr>
          <a:xfrm>
            <a:off x="3274920" y="1413000"/>
            <a:ext cx="2657520" cy="1778040"/>
          </a:xfrm>
          <a:prstGeom prst="rect">
            <a:avLst/>
          </a:prstGeom>
          <a:ln w="25560">
            <a:solidFill>
              <a:srgbClr val="ffff00"/>
            </a:solidFill>
            <a:miter/>
          </a:ln>
        </p:spPr>
      </p:pic>
      <p:sp>
        <p:nvSpPr>
          <p:cNvPr id="198" name="Rectangle 5"/>
          <p:cNvSpPr/>
          <p:nvPr/>
        </p:nvSpPr>
        <p:spPr>
          <a:xfrm>
            <a:off x="1258920" y="260280"/>
            <a:ext cx="7056360" cy="69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Bookman Old Style"/>
              </a:rPr>
              <a:t>Игра «Чей дом?»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6"/>
          <p:cNvSpPr/>
          <p:nvPr/>
        </p:nvSpPr>
        <p:spPr>
          <a:xfrm>
            <a:off x="6960240" y="3068640"/>
            <a:ext cx="1994400" cy="4597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муравейни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7"/>
          <p:cNvSpPr/>
          <p:nvPr/>
        </p:nvSpPr>
        <p:spPr>
          <a:xfrm>
            <a:off x="4150440" y="3068640"/>
            <a:ext cx="1896840" cy="4597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лисья нор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8"/>
          <p:cNvSpPr/>
          <p:nvPr/>
        </p:nvSpPr>
        <p:spPr>
          <a:xfrm>
            <a:off x="656640" y="3068640"/>
            <a:ext cx="2468160" cy="4597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мышиная нор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2" name="Picture 9" descr="Бобровая хатка"/>
          <p:cNvPicPr/>
          <p:nvPr/>
        </p:nvPicPr>
        <p:blipFill>
          <a:blip r:embed="rId4"/>
          <a:stretch/>
        </p:blipFill>
        <p:spPr>
          <a:xfrm>
            <a:off x="6372360" y="4005360"/>
            <a:ext cx="2447640" cy="1800000"/>
          </a:xfrm>
          <a:prstGeom prst="rect">
            <a:avLst/>
          </a:prstGeom>
          <a:ln w="25560">
            <a:solidFill>
              <a:srgbClr val="ffff00"/>
            </a:solidFill>
            <a:miter/>
          </a:ln>
        </p:spPr>
      </p:pic>
      <p:pic>
        <p:nvPicPr>
          <p:cNvPr id="203" name="Picture 10" descr="Берлога"/>
          <p:cNvPicPr/>
          <p:nvPr/>
        </p:nvPicPr>
        <p:blipFill>
          <a:blip r:embed="rId5"/>
          <a:stretch/>
        </p:blipFill>
        <p:spPr>
          <a:xfrm>
            <a:off x="106200" y="4005360"/>
            <a:ext cx="2814840" cy="1800000"/>
          </a:xfrm>
          <a:prstGeom prst="rect">
            <a:avLst/>
          </a:prstGeom>
          <a:ln w="25560">
            <a:solidFill>
              <a:srgbClr val="ffff00"/>
            </a:solidFill>
            <a:miter/>
          </a:ln>
        </p:spPr>
      </p:pic>
      <p:pic>
        <p:nvPicPr>
          <p:cNvPr id="204" name="Picture 11" descr="Дупло"/>
          <p:cNvPicPr/>
          <p:nvPr/>
        </p:nvPicPr>
        <p:blipFill>
          <a:blip r:embed="rId6"/>
          <a:stretch/>
        </p:blipFill>
        <p:spPr>
          <a:xfrm>
            <a:off x="3132000" y="4005360"/>
            <a:ext cx="1295640" cy="1797120"/>
          </a:xfrm>
          <a:prstGeom prst="rect">
            <a:avLst/>
          </a:prstGeom>
          <a:ln w="25560">
            <a:solidFill>
              <a:srgbClr val="ffff00"/>
            </a:solidFill>
            <a:miter/>
          </a:ln>
        </p:spPr>
      </p:pic>
      <p:pic>
        <p:nvPicPr>
          <p:cNvPr id="205" name="Picture 12" descr="Гнездо"/>
          <p:cNvPicPr/>
          <p:nvPr/>
        </p:nvPicPr>
        <p:blipFill>
          <a:blip r:embed="rId7"/>
          <a:stretch/>
        </p:blipFill>
        <p:spPr>
          <a:xfrm>
            <a:off x="4716360" y="4005360"/>
            <a:ext cx="1224000" cy="1797120"/>
          </a:xfrm>
          <a:prstGeom prst="rect">
            <a:avLst/>
          </a:prstGeom>
          <a:ln w="25560">
            <a:solidFill>
              <a:srgbClr val="ffff00"/>
            </a:solidFill>
            <a:miter/>
          </a:ln>
        </p:spPr>
      </p:pic>
      <p:sp>
        <p:nvSpPr>
          <p:cNvPr id="206" name="Text Box 13"/>
          <p:cNvSpPr/>
          <p:nvPr/>
        </p:nvSpPr>
        <p:spPr>
          <a:xfrm>
            <a:off x="1198080" y="5587920"/>
            <a:ext cx="1788480" cy="8254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медвежь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берлог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Text Box 14"/>
          <p:cNvSpPr/>
          <p:nvPr/>
        </p:nvSpPr>
        <p:spPr>
          <a:xfrm>
            <a:off x="7752240" y="5587920"/>
            <a:ext cx="1198800" cy="8254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хатк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бобр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 Box 15"/>
          <p:cNvSpPr/>
          <p:nvPr/>
        </p:nvSpPr>
        <p:spPr>
          <a:xfrm>
            <a:off x="4788000" y="5587920"/>
            <a:ext cx="1439640" cy="8254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тичь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гнезд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16"/>
          <p:cNvSpPr/>
          <p:nvPr/>
        </p:nvSpPr>
        <p:spPr>
          <a:xfrm>
            <a:off x="3430800" y="5587920"/>
            <a:ext cx="1099800" cy="8254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дупл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белк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" name="Group 2"/>
          <p:cNvGrpSpPr/>
          <p:nvPr/>
        </p:nvGrpSpPr>
        <p:grpSpPr>
          <a:xfrm>
            <a:off x="468360" y="2133720"/>
            <a:ext cx="8029440" cy="4319640"/>
            <a:chOff x="468360" y="2133720"/>
            <a:chExt cx="8029440" cy="4319640"/>
          </a:xfrm>
        </p:grpSpPr>
        <p:sp>
          <p:nvSpPr>
            <p:cNvPr id="68" name="AutoShape 3"/>
            <p:cNvSpPr/>
            <p:nvPr/>
          </p:nvSpPr>
          <p:spPr>
            <a:xfrm>
              <a:off x="468360" y="2133720"/>
              <a:ext cx="8029440" cy="431964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9" name="Picture 4" descr="Синица"/>
            <p:cNvPicPr/>
            <p:nvPr/>
          </p:nvPicPr>
          <p:blipFill>
            <a:blip r:embed="rId1"/>
            <a:srcRect l="11546" t="9072" r="11546" b="13036"/>
            <a:stretch/>
          </p:blipFill>
          <p:spPr>
            <a:xfrm>
              <a:off x="611280" y="2306520"/>
              <a:ext cx="3147840" cy="225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" name="Picture 5" descr="прр"/>
            <p:cNvPicPr/>
            <p:nvPr/>
          </p:nvPicPr>
          <p:blipFill>
            <a:blip r:embed="rId2"/>
            <a:stretch/>
          </p:blipFill>
          <p:spPr>
            <a:xfrm>
              <a:off x="1476360" y="4869000"/>
              <a:ext cx="2658960" cy="150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Picture 6" descr="КАБАН"/>
            <p:cNvPicPr/>
            <p:nvPr/>
          </p:nvPicPr>
          <p:blipFill>
            <a:blip r:embed="rId3"/>
            <a:stretch/>
          </p:blipFill>
          <p:spPr>
            <a:xfrm>
              <a:off x="4067280" y="2276640"/>
              <a:ext cx="2843280" cy="224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Picture 7" descr="Божья коровка"/>
            <p:cNvPicPr/>
            <p:nvPr/>
          </p:nvPicPr>
          <p:blipFill>
            <a:blip r:embed="rId4"/>
            <a:stretch/>
          </p:blipFill>
          <p:spPr>
            <a:xfrm>
              <a:off x="5867280" y="4941720"/>
              <a:ext cx="1819440" cy="1430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3" name="AutoShape 8"/>
          <p:cNvSpPr/>
          <p:nvPr/>
        </p:nvSpPr>
        <p:spPr>
          <a:xfrm>
            <a:off x="539640" y="404640"/>
            <a:ext cx="8064720" cy="136872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00"/>
                </a:solidFill>
                <a:latin typeface="Bookman Old Style"/>
              </a:rPr>
              <a:t>ЖИВОТНЫЕ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зяблик 4"/>
          <p:cNvPicPr/>
          <p:nvPr/>
        </p:nvPicPr>
        <p:blipFill>
          <a:blip r:embed="rId1"/>
          <a:stretch/>
        </p:blipFill>
        <p:spPr>
          <a:xfrm>
            <a:off x="272880" y="2349360"/>
            <a:ext cx="2765520" cy="2127240"/>
          </a:xfrm>
          <a:prstGeom prst="rect">
            <a:avLst/>
          </a:prstGeom>
          <a:ln w="25560">
            <a:solidFill>
              <a:srgbClr val="ffff00"/>
            </a:solidFill>
            <a:miter/>
          </a:ln>
        </p:spPr>
      </p:pic>
      <p:sp>
        <p:nvSpPr>
          <p:cNvPr id="75" name="Text Box 4"/>
          <p:cNvSpPr/>
          <p:nvPr/>
        </p:nvSpPr>
        <p:spPr>
          <a:xfrm>
            <a:off x="250920" y="836640"/>
            <a:ext cx="889308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Bookman Old Style"/>
              </a:rPr>
              <a:t>Разнообразие животного мира</a:t>
            </a:r>
            <a:r>
              <a:rPr b="1" lang="ru-RU" sz="3200" spc="-1" strike="noStrike">
                <a:solidFill>
                  <a:srgbClr val="ff0000"/>
                </a:solidFill>
                <a:latin typeface="Bookman Old Style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Bookman Old Style"/>
              </a:rPr>
              <a:t>России</a:t>
            </a:r>
            <a:r>
              <a:rPr b="1" lang="ru-RU" sz="3200" spc="-1" strike="noStrike">
                <a:solidFill>
                  <a:srgbClr val="ff0000"/>
                </a:solidFill>
                <a:latin typeface="Bookman Old Style"/>
              </a:rPr>
              <a:t>.</a:t>
            </a:r>
            <a:r>
              <a:rPr b="1" lang="ru-RU" sz="3600" spc="-1" strike="noStrike">
                <a:solidFill>
                  <a:srgbClr val="ff0000"/>
                </a:solidFill>
                <a:latin typeface="Bookman Old Style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Picture 5" descr="зубр 2"/>
          <p:cNvPicPr/>
          <p:nvPr/>
        </p:nvPicPr>
        <p:blipFill>
          <a:blip r:embed="rId2"/>
          <a:stretch/>
        </p:blipFill>
        <p:spPr>
          <a:xfrm>
            <a:off x="900000" y="4365720"/>
            <a:ext cx="3240360" cy="2106360"/>
          </a:xfrm>
          <a:prstGeom prst="rect">
            <a:avLst/>
          </a:prstGeom>
          <a:ln w="25560">
            <a:solidFill>
              <a:srgbClr val="ffff00"/>
            </a:solidFill>
            <a:miter/>
          </a:ln>
        </p:spPr>
      </p:pic>
      <p:pic>
        <p:nvPicPr>
          <p:cNvPr id="77" name="Picture 6" descr="ЗАЯЦ"/>
          <p:cNvPicPr/>
          <p:nvPr/>
        </p:nvPicPr>
        <p:blipFill>
          <a:blip r:embed="rId3"/>
          <a:stretch/>
        </p:blipFill>
        <p:spPr>
          <a:xfrm>
            <a:off x="3780000" y="2349360"/>
            <a:ext cx="1655640" cy="2303640"/>
          </a:xfrm>
          <a:prstGeom prst="rect">
            <a:avLst/>
          </a:prstGeom>
          <a:ln w="25560">
            <a:solidFill>
              <a:srgbClr val="ffff00"/>
            </a:solidFill>
            <a:miter/>
          </a:ln>
        </p:spPr>
      </p:pic>
      <p:pic>
        <p:nvPicPr>
          <p:cNvPr id="78" name="Picture 7" descr="27ЛД"/>
          <p:cNvPicPr/>
          <p:nvPr/>
        </p:nvPicPr>
        <p:blipFill>
          <a:blip r:embed="rId4"/>
          <a:stretch/>
        </p:blipFill>
        <p:spPr>
          <a:xfrm>
            <a:off x="4932360" y="4365720"/>
            <a:ext cx="2881440" cy="2162160"/>
          </a:xfrm>
          <a:prstGeom prst="rect">
            <a:avLst/>
          </a:prstGeom>
          <a:ln w="25560">
            <a:solidFill>
              <a:srgbClr val="ffff00"/>
            </a:solidFill>
            <a:miter/>
          </a:ln>
        </p:spPr>
      </p:pic>
      <p:pic>
        <p:nvPicPr>
          <p:cNvPr id="79" name="Picture 8" descr="БОБЁР"/>
          <p:cNvPicPr/>
          <p:nvPr/>
        </p:nvPicPr>
        <p:blipFill>
          <a:blip r:embed="rId5"/>
          <a:stretch/>
        </p:blipFill>
        <p:spPr>
          <a:xfrm>
            <a:off x="6732720" y="2349360"/>
            <a:ext cx="2219040" cy="2132280"/>
          </a:xfrm>
          <a:prstGeom prst="rect">
            <a:avLst/>
          </a:prstGeom>
          <a:ln w="25560">
            <a:solidFill>
              <a:srgbClr val="ffff00"/>
            </a:solidFill>
            <a:miter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" dur="8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" dur="8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" dur="8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1040"/>
                            </p:stCondLst>
                            <p:childTnLst>
                              <p:par>
                                <p:cTn id="5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" dur="8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" dur="8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" dur="8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1360"/>
                            </p:stCondLst>
                            <p:childTnLst>
                              <p:par>
                                <p:cTn id="5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1860"/>
                            </p:stCondLst>
                            <p:childTnLst>
                              <p:par>
                                <p:cTn id="6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2360"/>
                            </p:stCondLst>
                            <p:childTnLst>
                              <p:par>
                                <p:cTn id="6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2860"/>
                            </p:stCondLst>
                            <p:childTnLst>
                              <p:par>
                                <p:cTn id="7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3360"/>
                            </p:stCondLst>
                            <p:childTnLst>
                              <p:par>
                                <p:cTn id="7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AutoShape 2"/>
          <p:cNvSpPr/>
          <p:nvPr/>
        </p:nvSpPr>
        <p:spPr>
          <a:xfrm>
            <a:off x="179280" y="1268280"/>
            <a:ext cx="8785440" cy="547380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3"/>
          <p:cNvSpPr/>
          <p:nvPr/>
        </p:nvSpPr>
        <p:spPr>
          <a:xfrm>
            <a:off x="826920" y="260280"/>
            <a:ext cx="7345440" cy="69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Отгадай обитателя гор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4"/>
          <p:cNvSpPr/>
          <p:nvPr/>
        </p:nvSpPr>
        <p:spPr>
          <a:xfrm>
            <a:off x="324000" y="1341360"/>
            <a:ext cx="84960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то мохнатый тяжеловес среди хищников. Это могучий, плотно сложенный зверь. Морда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 него вытянута, как у собаки. Глаза и уши очень маленькие, зато когти огромные и являются очень страшным оружием. Хотя относится к хищникам, но с удовольствием ест различные злаки, корни, ягоды и орехи. Он обычно предпочитает избегать человека, но в случае опасности может смело атаковать. Убежать от него очень трудно. На короткой дистанции хищник может обогнать даже скаковую лошадь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" name="Group 5"/>
          <p:cNvGrpSpPr/>
          <p:nvPr/>
        </p:nvGrpSpPr>
        <p:grpSpPr>
          <a:xfrm>
            <a:off x="324000" y="189000"/>
            <a:ext cx="8569080" cy="6401880"/>
            <a:chOff x="324000" y="189000"/>
            <a:chExt cx="8569080" cy="6401880"/>
          </a:xfrm>
        </p:grpSpPr>
        <p:pic>
          <p:nvPicPr>
            <p:cNvPr id="84" name="Picture 6" descr="Изображение 295"/>
            <p:cNvPicPr/>
            <p:nvPr/>
          </p:nvPicPr>
          <p:blipFill>
            <a:blip r:embed="rId1"/>
            <a:stretch/>
          </p:blipFill>
          <p:spPr>
            <a:xfrm>
              <a:off x="324000" y="189000"/>
              <a:ext cx="8569080" cy="6221160"/>
            </a:xfrm>
            <a:prstGeom prst="rect">
              <a:avLst/>
            </a:prstGeom>
            <a:ln w="25560">
              <a:solidFill>
                <a:srgbClr val="ff0000"/>
              </a:solidFill>
              <a:miter/>
            </a:ln>
          </p:spPr>
        </p:pic>
        <p:pic>
          <p:nvPicPr>
            <p:cNvPr id="85" name="Picture 7" descr=""/>
            <p:cNvPicPr/>
            <p:nvPr/>
          </p:nvPicPr>
          <p:blipFill>
            <a:blip r:embed="rId2"/>
            <a:stretch/>
          </p:blipFill>
          <p:spPr>
            <a:xfrm>
              <a:off x="8245440" y="5805360"/>
              <a:ext cx="612720" cy="62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Text Box 8"/>
            <p:cNvSpPr/>
            <p:nvPr/>
          </p:nvSpPr>
          <p:spPr>
            <a:xfrm>
              <a:off x="468360" y="5948280"/>
              <a:ext cx="4576680" cy="64260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600" spc="-1" strike="noStrike">
                  <a:solidFill>
                    <a:srgbClr val="000000"/>
                  </a:solidFill>
                  <a:latin typeface="Arial"/>
                </a:rPr>
                <a:t>Бурый медведь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%D0%BC%D0%B5%D0%B4%D0%B2%D0%B5%D0%B4%D1%8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AutoShape 2"/>
          <p:cNvSpPr/>
          <p:nvPr/>
        </p:nvSpPr>
        <p:spPr>
          <a:xfrm>
            <a:off x="250920" y="981000"/>
            <a:ext cx="8642160" cy="568800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250920" y="189000"/>
            <a:ext cx="8713800" cy="69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Отгадай обитателя степе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395280" y="1052640"/>
            <a:ext cx="84247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то животное открытых просторов, степных раздолий. Днём они отдыхают, а в сумерках покидают лёжки и отправляются на длительные поиски корма. Летом питаются различными травами, а зимой корой лиственных деревьев. Врагов у них очень много. Поэтому все тело этих животных приспособлено к бегу. Передняя пара ног служит опорой для задних. Передвигаться шагом эти животные не способны. А их глаза не зря называют «косыми»,  они видят не только вперед и в стороны, но даже и немного назад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Group 5"/>
          <p:cNvGrpSpPr/>
          <p:nvPr/>
        </p:nvGrpSpPr>
        <p:grpSpPr>
          <a:xfrm>
            <a:off x="1258920" y="115920"/>
            <a:ext cx="6697800" cy="6570000"/>
            <a:chOff x="1258920" y="115920"/>
            <a:chExt cx="6697800" cy="6570000"/>
          </a:xfrm>
        </p:grpSpPr>
        <p:pic>
          <p:nvPicPr>
            <p:cNvPr id="91" name="Picture 6" descr="6278"/>
            <p:cNvPicPr/>
            <p:nvPr/>
          </p:nvPicPr>
          <p:blipFill>
            <a:blip r:embed="rId1"/>
            <a:stretch/>
          </p:blipFill>
          <p:spPr>
            <a:xfrm>
              <a:off x="1258920" y="115920"/>
              <a:ext cx="4365720" cy="6238800"/>
            </a:xfrm>
            <a:prstGeom prst="rect">
              <a:avLst/>
            </a:prstGeom>
            <a:ln w="25560">
              <a:solidFill>
                <a:srgbClr val="ff0000"/>
              </a:solidFill>
              <a:miter/>
            </a:ln>
          </p:spPr>
        </p:pic>
        <p:sp>
          <p:nvSpPr>
            <p:cNvPr id="92" name="Text Box 7"/>
            <p:cNvSpPr/>
            <p:nvPr/>
          </p:nvSpPr>
          <p:spPr>
            <a:xfrm>
              <a:off x="4427640" y="6043320"/>
              <a:ext cx="3529080" cy="64260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600" spc="-1" strike="noStrike">
                  <a:solidFill>
                    <a:srgbClr val="000000"/>
                  </a:solidFill>
                  <a:latin typeface="Arial"/>
                </a:rPr>
                <a:t>Заяц-русак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AutoShape 2"/>
          <p:cNvSpPr/>
          <p:nvPr/>
        </p:nvSpPr>
        <p:spPr>
          <a:xfrm>
            <a:off x="250920" y="1197000"/>
            <a:ext cx="8642160" cy="540072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250920" y="189000"/>
            <a:ext cx="8713800" cy="69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Отгадай обитателя лесо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395280" y="1341360"/>
            <a:ext cx="842472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ни живут в наших лесах ещё со времён первобытных людей. У них очень большая голова и короткое туловище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 самцов огромные клыки, которые к старости закручиваются и, врезаясь в нижние челюсти, уже могут служить оружием. Эти животные всеядны. Они едят и траву, и побеги молодых деревьев, и жёлуди, а их любимое блюдо – земляные черв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" name="Group 5"/>
          <p:cNvGrpSpPr/>
          <p:nvPr/>
        </p:nvGrpSpPr>
        <p:grpSpPr>
          <a:xfrm>
            <a:off x="971640" y="692280"/>
            <a:ext cx="7632720" cy="5456160"/>
            <a:chOff x="971640" y="692280"/>
            <a:chExt cx="7632720" cy="5456160"/>
          </a:xfrm>
        </p:grpSpPr>
        <p:pic>
          <p:nvPicPr>
            <p:cNvPr id="97" name="Picture 6" descr="207"/>
            <p:cNvPicPr/>
            <p:nvPr/>
          </p:nvPicPr>
          <p:blipFill>
            <a:blip r:embed="rId1"/>
            <a:stretch/>
          </p:blipFill>
          <p:spPr>
            <a:xfrm>
              <a:off x="971640" y="692280"/>
              <a:ext cx="7200720" cy="5159160"/>
            </a:xfrm>
            <a:prstGeom prst="rect">
              <a:avLst/>
            </a:prstGeom>
            <a:ln w="25560">
              <a:solidFill>
                <a:srgbClr val="ff0000"/>
              </a:solidFill>
              <a:miter/>
            </a:ln>
          </p:spPr>
        </p:pic>
        <p:sp>
          <p:nvSpPr>
            <p:cNvPr id="98" name="Text Box 7"/>
            <p:cNvSpPr/>
            <p:nvPr/>
          </p:nvSpPr>
          <p:spPr>
            <a:xfrm>
              <a:off x="6012000" y="5445000"/>
              <a:ext cx="2592360" cy="70344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000" spc="-1" strike="noStrike">
                  <a:solidFill>
                    <a:srgbClr val="000000"/>
                  </a:solidFill>
                  <a:latin typeface="Arial"/>
                </a:rPr>
                <a:t>Кабан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wz8-web"/>
          <p:cNvPicPr/>
          <p:nvPr/>
        </p:nvPicPr>
        <p:blipFill>
          <a:blip r:embed="rId1"/>
          <a:stretch/>
        </p:blipFill>
        <p:spPr>
          <a:xfrm>
            <a:off x="0" y="0"/>
            <a:ext cx="9194760" cy="6859440"/>
          </a:xfrm>
          <a:prstGeom prst="rect">
            <a:avLst/>
          </a:prstGeom>
          <a:ln w="0">
            <a:noFill/>
          </a:ln>
        </p:spPr>
      </p:pic>
      <p:grpSp>
        <p:nvGrpSpPr>
          <p:cNvPr id="100" name="Group 3"/>
          <p:cNvGrpSpPr/>
          <p:nvPr/>
        </p:nvGrpSpPr>
        <p:grpSpPr>
          <a:xfrm>
            <a:off x="179280" y="3429000"/>
            <a:ext cx="4679640" cy="3239640"/>
            <a:chOff x="179280" y="3429000"/>
            <a:chExt cx="4679640" cy="3239640"/>
          </a:xfrm>
        </p:grpSpPr>
        <p:pic>
          <p:nvPicPr>
            <p:cNvPr id="101" name="Picture 4" descr="белка 3"/>
            <p:cNvPicPr/>
            <p:nvPr/>
          </p:nvPicPr>
          <p:blipFill>
            <a:blip r:embed="rId2"/>
            <a:stretch/>
          </p:blipFill>
          <p:spPr>
            <a:xfrm>
              <a:off x="260640" y="3489120"/>
              <a:ext cx="4598280" cy="3179520"/>
            </a:xfrm>
            <a:prstGeom prst="rect">
              <a:avLst/>
            </a:prstGeom>
            <a:ln w="25560">
              <a:solidFill>
                <a:srgbClr val="ff0000"/>
              </a:solidFill>
              <a:miter/>
            </a:ln>
          </p:spPr>
        </p:pic>
        <p:sp>
          <p:nvSpPr>
            <p:cNvPr id="102" name="Text Box 5"/>
            <p:cNvSpPr/>
            <p:nvPr/>
          </p:nvSpPr>
          <p:spPr>
            <a:xfrm>
              <a:off x="179280" y="3429000"/>
              <a:ext cx="1641240" cy="52056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000000"/>
                  </a:solidFill>
                  <a:latin typeface="Arial"/>
                </a:rPr>
                <a:t>Белка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3" name="Picture 6" descr=""/>
            <p:cNvPicPr/>
            <p:nvPr/>
          </p:nvPicPr>
          <p:blipFill>
            <a:blip r:embed="rId3"/>
            <a:stretch/>
          </p:blipFill>
          <p:spPr>
            <a:xfrm>
              <a:off x="2066760" y="3581280"/>
              <a:ext cx="347040" cy="320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4" name="Group 7"/>
          <p:cNvGrpSpPr/>
          <p:nvPr/>
        </p:nvGrpSpPr>
        <p:grpSpPr>
          <a:xfrm>
            <a:off x="250920" y="189000"/>
            <a:ext cx="4608000" cy="3128400"/>
            <a:chOff x="250920" y="189000"/>
            <a:chExt cx="4608000" cy="3128400"/>
          </a:xfrm>
        </p:grpSpPr>
        <p:pic>
          <p:nvPicPr>
            <p:cNvPr id="105" name="Picture 8" descr="000087copy"/>
            <p:cNvPicPr/>
            <p:nvPr/>
          </p:nvPicPr>
          <p:blipFill>
            <a:blip r:embed="rId4"/>
            <a:stretch/>
          </p:blipFill>
          <p:spPr>
            <a:xfrm>
              <a:off x="250920" y="189000"/>
              <a:ext cx="4608000" cy="3128400"/>
            </a:xfrm>
            <a:prstGeom prst="rect">
              <a:avLst/>
            </a:prstGeom>
            <a:ln w="25560">
              <a:solidFill>
                <a:srgbClr val="ff0000"/>
              </a:solidFill>
              <a:miter/>
            </a:ln>
          </p:spPr>
        </p:pic>
        <p:sp>
          <p:nvSpPr>
            <p:cNvPr id="106" name="Text Box 9"/>
            <p:cNvSpPr/>
            <p:nvPr/>
          </p:nvSpPr>
          <p:spPr>
            <a:xfrm>
              <a:off x="2362320" y="2653560"/>
              <a:ext cx="2494440" cy="52056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000000"/>
                  </a:solidFill>
                  <a:latin typeface="Arial"/>
                </a:rPr>
                <a:t>Дятел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7" name="Picture 10" descr=""/>
            <p:cNvPicPr/>
            <p:nvPr/>
          </p:nvPicPr>
          <p:blipFill>
            <a:blip r:embed="rId5"/>
            <a:stretch/>
          </p:blipFill>
          <p:spPr>
            <a:xfrm>
              <a:off x="4378680" y="2830320"/>
              <a:ext cx="406080" cy="372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8" name="Group 11"/>
          <p:cNvGrpSpPr/>
          <p:nvPr/>
        </p:nvGrpSpPr>
        <p:grpSpPr>
          <a:xfrm>
            <a:off x="5578560" y="981000"/>
            <a:ext cx="3565080" cy="5267160"/>
            <a:chOff x="5578560" y="981000"/>
            <a:chExt cx="3565080" cy="5267160"/>
          </a:xfrm>
        </p:grpSpPr>
        <p:pic>
          <p:nvPicPr>
            <p:cNvPr id="109" name="Picture 12" descr="сова"/>
            <p:cNvPicPr/>
            <p:nvPr/>
          </p:nvPicPr>
          <p:blipFill>
            <a:blip r:embed="rId6"/>
            <a:stretch/>
          </p:blipFill>
          <p:spPr>
            <a:xfrm>
              <a:off x="5578560" y="981000"/>
              <a:ext cx="3036960" cy="5267160"/>
            </a:xfrm>
            <a:prstGeom prst="rect">
              <a:avLst/>
            </a:prstGeom>
            <a:ln w="25560">
              <a:solidFill>
                <a:srgbClr val="ff0000"/>
              </a:solidFill>
              <a:miter/>
            </a:ln>
          </p:spPr>
        </p:pic>
        <p:sp>
          <p:nvSpPr>
            <p:cNvPr id="110" name="Text Box 13"/>
            <p:cNvSpPr/>
            <p:nvPr/>
          </p:nvSpPr>
          <p:spPr>
            <a:xfrm>
              <a:off x="7316640" y="5407560"/>
              <a:ext cx="1827000" cy="52056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000000"/>
                  </a:solidFill>
                  <a:latin typeface="Arial"/>
                </a:rPr>
                <a:t>Сова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1" name="Picture 14" descr=""/>
            <p:cNvPicPr/>
            <p:nvPr/>
          </p:nvPicPr>
          <p:blipFill>
            <a:blip r:embed="rId7"/>
            <a:stretch/>
          </p:blipFill>
          <p:spPr>
            <a:xfrm>
              <a:off x="8690040" y="5616720"/>
              <a:ext cx="386640" cy="44532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ОЛЕНЬ"/>
          <p:cNvPicPr/>
          <p:nvPr/>
        </p:nvPicPr>
        <p:blipFill>
          <a:blip r:embed="rId1"/>
          <a:stretch/>
        </p:blipFill>
        <p:spPr>
          <a:xfrm>
            <a:off x="179280" y="189000"/>
            <a:ext cx="3024360" cy="2612880"/>
          </a:xfrm>
          <a:prstGeom prst="rect">
            <a:avLst/>
          </a:prstGeom>
          <a:ln w="25560">
            <a:solidFill>
              <a:srgbClr val="ff0000"/>
            </a:solidFill>
            <a:miter/>
          </a:ln>
        </p:spPr>
      </p:pic>
      <p:pic>
        <p:nvPicPr>
          <p:cNvPr id="113" name="Picture 3" descr="ОЛЕНЬ 2"/>
          <p:cNvPicPr/>
          <p:nvPr/>
        </p:nvPicPr>
        <p:blipFill>
          <a:blip r:embed="rId2"/>
          <a:stretch/>
        </p:blipFill>
        <p:spPr>
          <a:xfrm>
            <a:off x="2627280" y="1628640"/>
            <a:ext cx="2085840" cy="1947960"/>
          </a:xfrm>
          <a:prstGeom prst="rect">
            <a:avLst/>
          </a:prstGeom>
          <a:ln w="25560">
            <a:solidFill>
              <a:srgbClr val="ff0000"/>
            </a:solidFill>
            <a:miter/>
          </a:ln>
        </p:spPr>
      </p:pic>
      <p:sp>
        <p:nvSpPr>
          <p:cNvPr id="114" name="Text Box 4"/>
          <p:cNvSpPr/>
          <p:nvPr/>
        </p:nvSpPr>
        <p:spPr>
          <a:xfrm>
            <a:off x="250920" y="3429000"/>
            <a:ext cx="3671640" cy="459720"/>
          </a:xfrm>
          <a:prstGeom prst="rect">
            <a:avLst/>
          </a:prstGeom>
          <a:solidFill>
            <a:srgbClr val="ffff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Благородные олен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5" descr="выдра"/>
          <p:cNvPicPr/>
          <p:nvPr/>
        </p:nvPicPr>
        <p:blipFill>
          <a:blip r:embed="rId3"/>
          <a:stretch/>
        </p:blipFill>
        <p:spPr>
          <a:xfrm>
            <a:off x="5435640" y="189000"/>
            <a:ext cx="3386160" cy="3124080"/>
          </a:xfrm>
          <a:prstGeom prst="rect">
            <a:avLst/>
          </a:prstGeom>
          <a:ln w="25560">
            <a:solidFill>
              <a:srgbClr val="ff0000"/>
            </a:solidFill>
            <a:miter/>
          </a:ln>
        </p:spPr>
      </p:pic>
      <p:sp>
        <p:nvSpPr>
          <p:cNvPr id="116" name="Text Box 6"/>
          <p:cNvSpPr/>
          <p:nvPr/>
        </p:nvSpPr>
        <p:spPr>
          <a:xfrm>
            <a:off x="7524720" y="2924280"/>
            <a:ext cx="1441440" cy="459720"/>
          </a:xfrm>
          <a:prstGeom prst="rect">
            <a:avLst/>
          </a:prstGeom>
          <a:solidFill>
            <a:srgbClr val="ffff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ыдр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7" descr="лесная соня"/>
          <p:cNvPicPr/>
          <p:nvPr/>
        </p:nvPicPr>
        <p:blipFill>
          <a:blip r:embed="rId4"/>
          <a:stretch/>
        </p:blipFill>
        <p:spPr>
          <a:xfrm>
            <a:off x="395280" y="4508640"/>
            <a:ext cx="3024360" cy="1779480"/>
          </a:xfrm>
          <a:prstGeom prst="rect">
            <a:avLst/>
          </a:prstGeom>
          <a:ln w="25560">
            <a:solidFill>
              <a:srgbClr val="ff0000"/>
            </a:solidFill>
            <a:miter/>
          </a:ln>
        </p:spPr>
      </p:pic>
      <p:sp>
        <p:nvSpPr>
          <p:cNvPr id="118" name="Text Box 8"/>
          <p:cNvSpPr/>
          <p:nvPr/>
        </p:nvSpPr>
        <p:spPr>
          <a:xfrm>
            <a:off x="1116000" y="6165720"/>
            <a:ext cx="2736720" cy="459720"/>
          </a:xfrm>
          <a:prstGeom prst="rect">
            <a:avLst/>
          </a:prstGeom>
          <a:solidFill>
            <a:srgbClr val="ffff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Лесная сон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Picture 9" descr="снегирь"/>
          <p:cNvPicPr/>
          <p:nvPr/>
        </p:nvPicPr>
        <p:blipFill>
          <a:blip r:embed="rId5"/>
          <a:stretch/>
        </p:blipFill>
        <p:spPr>
          <a:xfrm>
            <a:off x="5003640" y="3701880"/>
            <a:ext cx="3529080" cy="2853000"/>
          </a:xfrm>
          <a:prstGeom prst="rect">
            <a:avLst/>
          </a:prstGeom>
          <a:ln w="25560">
            <a:solidFill>
              <a:srgbClr val="ff0000"/>
            </a:solidFill>
            <a:miter/>
          </a:ln>
        </p:spPr>
      </p:pic>
      <p:sp>
        <p:nvSpPr>
          <p:cNvPr id="120" name="Text Box 10"/>
          <p:cNvSpPr/>
          <p:nvPr/>
        </p:nvSpPr>
        <p:spPr>
          <a:xfrm>
            <a:off x="7093080" y="6165720"/>
            <a:ext cx="1800000" cy="459720"/>
          </a:xfrm>
          <a:prstGeom prst="rect">
            <a:avLst/>
          </a:prstGeom>
          <a:solidFill>
            <a:srgbClr val="ffff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негир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2" descr="серна"/>
          <p:cNvPicPr/>
          <p:nvPr/>
        </p:nvPicPr>
        <p:blipFill>
          <a:blip r:embed="rId1"/>
          <a:stretch/>
        </p:blipFill>
        <p:spPr>
          <a:xfrm>
            <a:off x="5508720" y="260280"/>
            <a:ext cx="2808360" cy="2019240"/>
          </a:xfrm>
          <a:prstGeom prst="rect">
            <a:avLst/>
          </a:prstGeom>
          <a:ln w="25560">
            <a:solidFill>
              <a:srgbClr val="ff0000"/>
            </a:solidFill>
            <a:miter/>
          </a:ln>
        </p:spPr>
      </p:pic>
      <p:sp>
        <p:nvSpPr>
          <p:cNvPr id="122" name="Text Box 3"/>
          <p:cNvSpPr/>
          <p:nvPr/>
        </p:nvSpPr>
        <p:spPr>
          <a:xfrm>
            <a:off x="7236000" y="1916280"/>
            <a:ext cx="1441440" cy="459720"/>
          </a:xfrm>
          <a:prstGeom prst="rect">
            <a:avLst/>
          </a:prstGeom>
          <a:solidFill>
            <a:srgbClr val="ffff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ер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Picture 4" descr="ЗУБР 2"/>
          <p:cNvPicPr/>
          <p:nvPr/>
        </p:nvPicPr>
        <p:blipFill>
          <a:blip r:embed="rId2"/>
          <a:stretch/>
        </p:blipFill>
        <p:spPr>
          <a:xfrm>
            <a:off x="395280" y="290520"/>
            <a:ext cx="2952720" cy="2085840"/>
          </a:xfrm>
          <a:prstGeom prst="rect">
            <a:avLst/>
          </a:prstGeom>
          <a:ln w="25560">
            <a:solidFill>
              <a:srgbClr val="ff0000"/>
            </a:solidFill>
            <a:miter/>
          </a:ln>
        </p:spPr>
      </p:pic>
      <p:sp>
        <p:nvSpPr>
          <p:cNvPr id="124" name="Text Box 5"/>
          <p:cNvSpPr/>
          <p:nvPr/>
        </p:nvSpPr>
        <p:spPr>
          <a:xfrm>
            <a:off x="179280" y="2133720"/>
            <a:ext cx="1366920" cy="459720"/>
          </a:xfrm>
          <a:prstGeom prst="rect">
            <a:avLst/>
          </a:prstGeom>
          <a:solidFill>
            <a:srgbClr val="ffff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Зуб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Picture 6" descr="kosula"/>
          <p:cNvPicPr/>
          <p:nvPr/>
        </p:nvPicPr>
        <p:blipFill>
          <a:blip r:embed="rId3"/>
          <a:stretch/>
        </p:blipFill>
        <p:spPr>
          <a:xfrm>
            <a:off x="6084720" y="4149720"/>
            <a:ext cx="2916360" cy="2430360"/>
          </a:xfrm>
          <a:prstGeom prst="rect">
            <a:avLst/>
          </a:prstGeom>
          <a:ln w="25560">
            <a:solidFill>
              <a:srgbClr val="ff0000"/>
            </a:solidFill>
            <a:miter/>
          </a:ln>
        </p:spPr>
      </p:pic>
      <p:sp>
        <p:nvSpPr>
          <p:cNvPr id="126" name="Text Box 7"/>
          <p:cNvSpPr/>
          <p:nvPr/>
        </p:nvSpPr>
        <p:spPr>
          <a:xfrm>
            <a:off x="5435640" y="6165720"/>
            <a:ext cx="1582560" cy="459720"/>
          </a:xfrm>
          <a:prstGeom prst="rect">
            <a:avLst/>
          </a:prstGeom>
          <a:solidFill>
            <a:srgbClr val="ffff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Косул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Picture 8" descr="ГОРНЫЙ КОЗЁЛ"/>
          <p:cNvPicPr/>
          <p:nvPr/>
        </p:nvPicPr>
        <p:blipFill>
          <a:blip r:embed="rId4"/>
          <a:stretch/>
        </p:blipFill>
        <p:spPr>
          <a:xfrm>
            <a:off x="179280" y="4653000"/>
            <a:ext cx="2592360" cy="1944720"/>
          </a:xfrm>
          <a:prstGeom prst="rect">
            <a:avLst/>
          </a:prstGeom>
          <a:ln w="25560">
            <a:solidFill>
              <a:srgbClr val="ff0000"/>
            </a:solidFill>
            <a:miter/>
          </a:ln>
        </p:spPr>
      </p:pic>
      <p:sp>
        <p:nvSpPr>
          <p:cNvPr id="128" name="Text Box 9"/>
          <p:cNvSpPr/>
          <p:nvPr/>
        </p:nvSpPr>
        <p:spPr>
          <a:xfrm>
            <a:off x="900000" y="6237360"/>
            <a:ext cx="2521080" cy="459720"/>
          </a:xfrm>
          <a:prstGeom prst="rect">
            <a:avLst/>
          </a:prstGeom>
          <a:solidFill>
            <a:srgbClr val="ffff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Горный козё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Picture 10" descr="козёл горный альпийский"/>
          <p:cNvPicPr/>
          <p:nvPr/>
        </p:nvPicPr>
        <p:blipFill>
          <a:blip r:embed="rId5"/>
          <a:stretch/>
        </p:blipFill>
        <p:spPr>
          <a:xfrm>
            <a:off x="2916360" y="2565360"/>
            <a:ext cx="2879640" cy="1909800"/>
          </a:xfrm>
          <a:prstGeom prst="rect">
            <a:avLst/>
          </a:prstGeom>
          <a:ln w="25560">
            <a:solidFill>
              <a:srgbClr val="ff0000"/>
            </a:solidFill>
            <a:miter/>
          </a:ln>
        </p:spPr>
      </p:pic>
      <p:sp>
        <p:nvSpPr>
          <p:cNvPr id="130" name="Text Box 11"/>
          <p:cNvSpPr/>
          <p:nvPr/>
        </p:nvSpPr>
        <p:spPr>
          <a:xfrm>
            <a:off x="4356000" y="4365720"/>
            <a:ext cx="1513080" cy="459720"/>
          </a:xfrm>
          <a:prstGeom prst="rect">
            <a:avLst/>
          </a:prstGeom>
          <a:solidFill>
            <a:srgbClr val="ffff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Тур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30T19:49:26Z</dcterms:created>
  <dc:creator>Marina</dc:creator>
  <dc:description/>
  <dc:language>en-US</dc:language>
  <cp:lastModifiedBy>Пользователь</cp:lastModifiedBy>
  <dcterms:modified xsi:type="dcterms:W3CDTF">2023-11-07T03:39:39Z</dcterms:modified>
  <cp:revision>204</cp:revision>
  <dc:subject/>
  <dc:title>Слайд 1</dc:title>
</cp:coreProperties>
</file>